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0227F-EA3C-4475-9D94-8F981D76B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CCBDC-18D7-4513-8A3B-75A92183D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4EEC5-3C58-4BAE-8CBC-AFAEEEF2E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D39B5-6DC8-4DC8-8301-49B34C7FC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D4655-4314-4B6F-98E0-F2FFDCF0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F326-645F-4FAB-BFE5-A0B27B328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AC809-745D-4DD8-82BD-77079B099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B2327-E44A-46AB-97B5-43DE19D33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235A-5311-474E-9E94-C48EBEE33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FC74-F591-4DBE-957D-8986EA3D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F7A5-C592-4F4C-907E-F5827346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2FBB-0516-46FA-A067-89AC0ED91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D15D-08F1-4475-9920-41FB6B542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based on a simple object-oriented paradigm. An </a:t>
            </a:r>
            <a:r>
              <a:rPr b="1" lang="en-US" sz="3200" spc="-1" strike="noStrike">
                <a:solidFill>
                  <a:srgbClr val="000000"/>
                </a:solidFill>
                <a:latin typeface="Arial"/>
              </a:rPr>
              <a:t>object</a:t>
            </a:r>
            <a:r>
              <a:rPr b="0" lang="en-US" sz="3200" spc="-1" strike="noStrike">
                <a:solidFill>
                  <a:srgbClr val="000000"/>
                </a:solidFill>
                <a:latin typeface="Arial"/>
              </a:rPr>
              <a:t> is a construct with properties that are JavaScript variables. Properties can be other objects. Functions associated with an object are known as the object's </a:t>
            </a:r>
            <a:r>
              <a:rPr b="1" i="1" lang="en-US" sz="3200" spc="-1" strike="noStrike">
                <a:solidFill>
                  <a:srgbClr val="000000"/>
                </a:solidFill>
                <a:latin typeface="Arial"/>
              </a:rPr>
              <a:t>method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s and Propert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avaScript object has properties associated with it. You access the properties of an object with a simple no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Name.propertyName Both the object name and property name are case sensitive. You define a property by assigning it a value. For example, suppose there is an object named </a:t>
            </a:r>
            <a:r>
              <a:rPr b="0" i="1" lang="en-US" sz="2400" spc="-1" strike="noStrike">
                <a:solidFill>
                  <a:srgbClr val="000000"/>
                </a:solidFill>
                <a:latin typeface="Arial"/>
              </a:rPr>
              <a:t>myCar</a:t>
            </a:r>
            <a:r>
              <a:rPr b="0" lang="en-US" sz="2400" spc="-1" strike="noStrike">
                <a:solidFill>
                  <a:srgbClr val="000000"/>
                </a:solidFill>
                <a:latin typeface="Arial"/>
              </a:rPr>
              <a:t>. You can give it properties named </a:t>
            </a:r>
            <a:r>
              <a:rPr b="1" lang="en-US" sz="2400" spc="-1" strike="noStrike">
                <a:solidFill>
                  <a:srgbClr val="000000"/>
                </a:solidFill>
                <a:latin typeface="Arial"/>
              </a:rPr>
              <a:t>make</a:t>
            </a:r>
            <a:r>
              <a:rPr b="0" lang="en-US" sz="2400" spc="-1" strike="noStrike">
                <a:solidFill>
                  <a:srgbClr val="000000"/>
                </a:solidFill>
                <a:latin typeface="Arial"/>
              </a:rPr>
              <a:t>, </a:t>
            </a:r>
            <a:r>
              <a:rPr b="1" lang="en-US" sz="2400" spc="-1" strike="noStrike">
                <a:solidFill>
                  <a:srgbClr val="000000"/>
                </a:solidFill>
                <a:latin typeface="Arial"/>
              </a:rPr>
              <a:t>model</a:t>
            </a:r>
            <a:r>
              <a:rPr b="0" lang="en-US" sz="2400" spc="-1" strike="noStrike">
                <a:solidFill>
                  <a:srgbClr val="000000"/>
                </a:solidFill>
                <a:latin typeface="Arial"/>
              </a:rPr>
              <a:t>, and </a:t>
            </a:r>
            <a:r>
              <a:rPr b="1" lang="en-US" sz="2400" spc="-1" strike="noStrike">
                <a:solidFill>
                  <a:srgbClr val="000000"/>
                </a:solidFill>
                <a:latin typeface="Arial"/>
              </a:rPr>
              <a:t>year</a:t>
            </a:r>
            <a:r>
              <a:rPr b="0" lang="en-US" sz="2400" spc="-1" strike="noStrike">
                <a:solidFill>
                  <a:srgbClr val="000000"/>
                </a:solidFill>
                <a:latin typeface="Arial"/>
              </a:rPr>
              <a:t> as follo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ar.make = "For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ar.model = "Musta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ar.year = 6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nctions and Metho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are one of the fundamental building blocks in JavaScript. A function is a JavaScript procedure--a set of statements that performs a specific tas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definition consists of the </a:t>
            </a:r>
            <a:r>
              <a:rPr b="1" lang="en-US" sz="2800" spc="-1" strike="noStrike">
                <a:solidFill>
                  <a:srgbClr val="000000"/>
                </a:solidFill>
                <a:latin typeface="Arial"/>
              </a:rPr>
              <a:t>function</a:t>
            </a:r>
            <a:r>
              <a:rPr b="0" lang="en-US" sz="2800" spc="-1" strike="noStrike">
                <a:solidFill>
                  <a:srgbClr val="000000"/>
                </a:solidFill>
                <a:latin typeface="Arial"/>
              </a:rPr>
              <a:t> keyword, followed b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the fun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 of parameters to the function, enclosed in parentheses, and separated by com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vaScript statements that define the function, enclosed in curly brace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and Ev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method</a:t>
            </a:r>
            <a:r>
              <a:rPr b="0" lang="en-US" sz="3200" spc="-1" strike="noStrike">
                <a:solidFill>
                  <a:srgbClr val="000000"/>
                </a:solidFill>
                <a:latin typeface="Arial"/>
              </a:rPr>
              <a:t> is a function associated with an object. You define a method in the same way as you define a standard fun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are actions that can be detected by Java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Script Syntax Basic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is a sequence of statements to be executed by the brows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is Case Sensit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HTML, JavaScript is case sensitive - therefore watch your capitalization closely when you write JavaScript statements, create or call variables, objects and fun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Statements: A JavaScript statement is a command to a browser. The purpose of the command is to tell the browser what to do. It is normal to add a semicolon at the end of each executable state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Variables in JavaScrip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re "containers" for storing inform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can have a short name, like x, or a more descriptive name, like carna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for JavaScript variable na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names are case sensitive (y and Y are two different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names must begin with a letter or the underscore charac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Because JavaScript is case-sensitive, variable names are case-sensiti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ing JavaScript Variabl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variables in JavaScript is most often referred to as "declaring" vari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declare JavaScript variables with the </a:t>
            </a:r>
            <a:r>
              <a:rPr b="1" lang="en-US" sz="2000" spc="-1" strike="noStrike">
                <a:solidFill>
                  <a:srgbClr val="000000"/>
                </a:solidFill>
                <a:latin typeface="Arial"/>
              </a:rPr>
              <a:t>var</a:t>
            </a:r>
            <a:r>
              <a:rPr b="0" lang="en-US" sz="2000" spc="-1" strike="noStrike">
                <a:solidFill>
                  <a:srgbClr val="000000"/>
                </a:solidFill>
                <a:latin typeface="Arial"/>
              </a:rPr>
              <a:t> key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x;</a:t>
            </a:r>
            <a:br>
              <a:rPr sz="2000"/>
            </a:br>
            <a:r>
              <a:rPr b="0" lang="en-US" sz="2000" spc="-1" strike="noStrike">
                <a:solidFill>
                  <a:srgbClr val="000000"/>
                </a:solidFill>
                <a:latin typeface="Arial"/>
              </a:rPr>
              <a:t>var carna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eclaration shown above, the variables are empty (they have no values y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you can also assign values to the variables when you declare th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x=5;</a:t>
            </a:r>
            <a:br>
              <a:rPr sz="2000"/>
            </a:br>
            <a:r>
              <a:rPr b="0" lang="en-US" sz="2000" spc="-1" strike="noStrike">
                <a:solidFill>
                  <a:srgbClr val="000000"/>
                </a:solidFill>
                <a:latin typeface="Arial"/>
              </a:rPr>
              <a:t>var carname="Vol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execution of the statements above, the variable </a:t>
            </a:r>
            <a:r>
              <a:rPr b="1" lang="en-US" sz="2000" spc="-1" strike="noStrike">
                <a:solidFill>
                  <a:srgbClr val="000000"/>
                </a:solidFill>
                <a:latin typeface="Arial"/>
              </a:rPr>
              <a:t>x</a:t>
            </a:r>
            <a:r>
              <a:rPr b="0" lang="en-US" sz="2000" spc="-1" strike="noStrike">
                <a:solidFill>
                  <a:srgbClr val="000000"/>
                </a:solidFill>
                <a:latin typeface="Arial"/>
              </a:rPr>
              <a:t> will hold the value </a:t>
            </a:r>
            <a:r>
              <a:rPr b="1" lang="en-US" sz="2000" spc="-1" strike="noStrike">
                <a:solidFill>
                  <a:srgbClr val="000000"/>
                </a:solidFill>
                <a:latin typeface="Arial"/>
              </a:rPr>
              <a:t>5</a:t>
            </a:r>
            <a:r>
              <a:rPr b="0" lang="en-US" sz="2000" spc="-1" strike="noStrike">
                <a:solidFill>
                  <a:srgbClr val="000000"/>
                </a:solidFill>
                <a:latin typeface="Arial"/>
              </a:rPr>
              <a:t>, and </a:t>
            </a:r>
            <a:r>
              <a:rPr b="1" lang="en-US" sz="2000" spc="-1" strike="noStrike">
                <a:solidFill>
                  <a:srgbClr val="000000"/>
                </a:solidFill>
                <a:latin typeface="Arial"/>
              </a:rPr>
              <a:t>carname</a:t>
            </a:r>
            <a:r>
              <a:rPr b="0" lang="en-US" sz="2000" spc="-1" strike="noStrike">
                <a:solidFill>
                  <a:srgbClr val="000000"/>
                </a:solidFill>
                <a:latin typeface="Arial"/>
              </a:rPr>
              <a:t> will hold the value </a:t>
            </a:r>
            <a:r>
              <a:rPr b="1" lang="en-US" sz="2000" spc="-1" strike="noStrike">
                <a:solidFill>
                  <a:srgbClr val="000000"/>
                </a:solidFill>
                <a:latin typeface="Arial"/>
              </a:rPr>
              <a:t>Volv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When you assign a text value to a variable, use quotes around the va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JavaScript Variab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declared within a JavaScript function becomes </a:t>
            </a:r>
            <a:r>
              <a:rPr b="1" lang="en-US" sz="2800" spc="-1" strike="noStrike">
                <a:solidFill>
                  <a:srgbClr val="000000"/>
                </a:solidFill>
                <a:latin typeface="Arial"/>
              </a:rPr>
              <a:t>LOCAL</a:t>
            </a:r>
            <a:r>
              <a:rPr b="0" lang="en-US" sz="2800" spc="-1" strike="noStrike">
                <a:solidFill>
                  <a:srgbClr val="000000"/>
                </a:solidFill>
                <a:latin typeface="Arial"/>
              </a:rPr>
              <a:t> and can only be accessed within that function. (the variable has local sc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have local variables with the same name in different functions, because local variables are only recognized by the function in which they are decla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variables are destroyed when you exit the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JavaScript Variabl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declared outside a function becomes </a:t>
            </a:r>
            <a:r>
              <a:rPr b="1" lang="en-US" sz="3200" spc="-1" strike="noStrike">
                <a:solidFill>
                  <a:srgbClr val="000000"/>
                </a:solidFill>
                <a:latin typeface="Arial"/>
              </a:rPr>
              <a:t>GLOBAL</a:t>
            </a:r>
            <a:r>
              <a:rPr b="0" lang="en-US" sz="3200" spc="-1" strike="noStrike">
                <a:solidFill>
                  <a:srgbClr val="000000"/>
                </a:solidFill>
                <a:latin typeface="Arial"/>
              </a:rPr>
              <a:t>, and all scripts and functions on the web page can acces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variables are destroyed when you close the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eclare a variable, without using "var", the variable always becomes </a:t>
            </a:r>
            <a:r>
              <a:rPr b="1" lang="en-US" sz="3200" spc="-1" strike="noStrike">
                <a:solidFill>
                  <a:srgbClr val="000000"/>
                </a:solidFill>
                <a:latin typeface="Arial"/>
              </a:rPr>
              <a:t>GLOBAL</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ing Values to Undeclared JavaScript Variable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ssign values to variables that have not yet been declared, the variables will automatically be declared as global vari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te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5;</a:t>
            </a:r>
            <a:br>
              <a:rPr sz="2800"/>
            </a:br>
            <a:r>
              <a:rPr b="0" lang="en-US" sz="2800" spc="-1" strike="noStrike">
                <a:solidFill>
                  <a:srgbClr val="000000"/>
                </a:solidFill>
                <a:latin typeface="Arial"/>
              </a:rPr>
              <a:t>carname="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declare the variables x and carname as global variables (if they don't already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JavaScrip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scape was launched in 1994. In its early form, the browser was primarily a tool to display static textual/graphical information and to initiate downloads.  Netscape wanted to add dynamic capability to its browser and started to develop its own language called LiveScrip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ate 1995, Java was becoming popular so Netscape and Sun agreed to rename the language to JavaScript, apparently for marketing reas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JavaScrip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a:t>
            </a:r>
            <a:r>
              <a:rPr b="0" i="1" lang="en-US" sz="3200" spc="-1" strike="noStrike">
                <a:solidFill>
                  <a:srgbClr val="000000"/>
                </a:solidFill>
                <a:latin typeface="Arial"/>
              </a:rPr>
              <a:t>THE</a:t>
            </a:r>
            <a:r>
              <a:rPr b="0" lang="en-US" sz="3200" spc="-1" strike="noStrike">
                <a:solidFill>
                  <a:srgbClr val="000000"/>
                </a:solidFill>
                <a:latin typeface="Arial"/>
              </a:rPr>
              <a:t> scripting language of the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used in billions of Web pages to add functionality, validate forms, communicate with the server, and much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 is easy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cript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urse deals with Scripts. A Script is a segment of code that manipulates the browser and its contents in ways that is not possible with ordinary HTML or Cascading Style Shee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using a script in your web pages, you can gain more control of how the page looks and behaves: dates and times can be added to the page, form elements validated before the contents are sent to the web server, browser details checked, cookies set, even simple games can be added to a web page - all with a scripting langu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use JavaScrip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Script is a language primarily intended to run in a browser (such as Netscape Navigator or Microsoft Internet Explorer) on the client machine. JavaScript is a language of limited size that is integrated into HTML documents. Some of the major uses of JavaScript inclu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ng HTML elements (e.g. pre-populating data, building selection lists, hiding/showing HTML elements based on data value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ng HTML elements (a scripter can generate some or all HTML elements in JavaScrip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ng to user input (e.g. performing computations as data is entered, responding to mouse click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the user with feedback (e.g. validating user-entered data and displaying a message box to indicate errors before submission to the serv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versions of JavaScri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was originally developed by Brendan Eich of Netscape under the name Mocha, later LiveScript, and finally renamed to JavaScript.In December 1995, Sun Microsystems and Netscape announced JavaScript in a press release. In March 1996, Netscape Navigator 2.0 was out, featuring support for JavaScrip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widespread success of JavaScript as a client-side scripting language for web pages, Microsoft developed a compatible dialect of the language, naming it  JScript to avoid trademark issues. JScript added new date methods to fix the non-Y2K-friendly methods in JavaScript, which were based on java.util.Date. JScript was included in Internet Explorer 3.0, released in August 199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versions of JavaScrip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scape delivered JavaScript to Ecma International for standardization and the work on the specification, ECMA-262, began in November 1996. The first edition of ECMA-262 was adopted by the Ecma General Assembly of June 1997. Several editions of the language standard have been published since th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MAScript is the name of the scripting language standardized in ECMA-262. The name "ECMAScript" was a compromise between the organizations involved in standardizing the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JavaScrip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ics of Object Oriented Programm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 of JavaScri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Objects in Java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conditional logic to simple browser scri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s and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ar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fi-U-Zaman</cp:lastModifiedBy>
  <dcterms:modified xsi:type="dcterms:W3CDTF">2011-05-03T16:53:36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