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40A-B99D-41C0-B104-D339B765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63B-106B-4534-93C9-1221D8F4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1F5-21F0-46FA-9298-BF8E4C54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F23-074C-4BFE-8771-262D51D6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8DD-FF9D-4737-B776-01212FC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145-940B-4891-A7CE-2242DAE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75B-7A26-4637-844C-2F946C9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202-66DB-46FB-8B28-B0AE776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7CB-DAA7-4C37-97F3-A8DBBFE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E78-60B3-430B-A3B1-83DC1AF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E42-3365-419C-9A55-7B4AEEC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518-CBB2-487B-9C7E-EDE3D21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BC34-AB10-45AE-AD20-C777010F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raphics, color and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layout wit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interactive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, color and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layout wit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ypertext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interactive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form Resource Locator (URL) is a web address and is used to locate different resources like files on the WWW. There are two types of U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URL: Refers to the complete address of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URL: Refers to a resource’s address relative to the current directory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Hyperlinks (Lin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yperlink (or link) is a word, group of words, or image that you can click on to jump to a new document or a new section within the current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ove the cursor over a link in a Web page, the arrow will turn into a little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are specified in HTML using the &lt;a&gt; tag. The &lt;a&gt; tag can be used in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o create a link to another document, by using the href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o create a bookmark inside a document, by using the name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Link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TML code for a link is simple. It looks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href="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k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ref attribute specifies the destination of a 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Example - Tenth.htm, Eleven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p – Twelf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ML Links - The name Attrib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attribute specifies the name of an anc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attribute is used to create a bookmark inside an HTM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med anchor inside an HTML 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 name="tips"&gt;Useful Tips Section&lt;/a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nk to the "Useful Tips Section" inside the same 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 href="#tips"&gt;Visit the Useful Tips Section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TML, images are defined with the &lt;img&gt; tag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img&gt; tag is empty, which means that it contains attributes only, and has no closing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play an image on a page, you need to use the src attribute. Src stands for "source". The value of the src attribute is the URL of the image you want to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mages with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for defining an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mg src=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alt=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_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/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RL points to the location where the image is stored. The required alt attribute specifies an alternate text for an image, if the image cannot be displa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tax to insert an animation is the same as that of a static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Example:- Fir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ion Example:- Thir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ground attribute of the &lt;Body&gt; tag is used to set the background image of a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- Second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nd application can be displayed in the web browser using the &lt;EMBED&gt;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- Four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, color and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vanced layout wit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interactive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re defined with the &lt;table&gt;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divided into rows (with the &lt;tr&gt; tag), and each row is divided into data cells (with the &lt;td&gt; tag). td stands for "table data," and holds the content of a data cell. A &lt;td&gt; tag can contain text, links, images, lists, forms, other tab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– Fif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information in a table are defined with the &lt;th&gt;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 in the &lt;th&gt; element will be displayed as bold and cen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ix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s Example – Seven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 rows and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columns can be grouped together under a single header using the colspan attribute of the &lt;th&gt;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a group of rows can be grouped together using the rowspan attribute of the &lt;th&gt;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span Example: Eigh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span Example: Nint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i-U-Zaman</cp:lastModifiedBy>
  <dcterms:modified xsi:type="dcterms:W3CDTF">2011-05-02T13:59:1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