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C4D74-B6CC-40A6-9DF0-FC5632067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3751-9C80-461A-9D7F-506CA2D4F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69CB0-3B1D-4BB3-BEA6-6618A6677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2B60B-D86E-4267-9417-E6E0507B9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7BDCA-39ED-4709-8951-8F22E4C1B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A9363-49E4-4672-B016-6AEAF6B5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5DF9D-EBDA-4BA7-8ACB-FCD014A24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DBFB-AD61-43C1-BFE0-287BFF69C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4CB15-2476-4F33-87E2-5EFB075FE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16F32-BD21-499F-9E3E-4C226EE82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1196-2E1E-4F0E-981F-6D4B865B1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D241-252C-457D-9FA4-88AD72F1D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26A2-3A86-4A5B-8E70-935CA6193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Object Oriented Programm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JavaScript syntax</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Built-In Objects in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ditional logic to simple browser 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s and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ar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ate Objec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ates: We can easily manipulate the date by using the methods available for the Date ob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below we set a Date object to a specific date (14th January 20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myDate=new Date();</a:t>
            </a:r>
            <a:br>
              <a:rPr sz="2000"/>
            </a:br>
            <a:r>
              <a:rPr b="0" lang="en-US" sz="2000" spc="-1" strike="noStrike">
                <a:solidFill>
                  <a:srgbClr val="000000"/>
                </a:solidFill>
                <a:latin typeface="Arial"/>
              </a:rPr>
              <a:t>myDate.setFullYear(2010,0,1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 the following example we set a Date object to be 5 days into the fut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myDate=new Date();</a:t>
            </a:r>
            <a:br>
              <a:rPr sz="2000"/>
            </a:br>
            <a:r>
              <a:rPr b="0" lang="en-US" sz="2000" spc="-1" strike="noStrike">
                <a:solidFill>
                  <a:srgbClr val="000000"/>
                </a:solidFill>
                <a:latin typeface="Arial"/>
              </a:rPr>
              <a:t>myDate.setDate(myDate.getDate()+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If adding five days to a date shifts the month or year, the changes are handled automatically by the Date object itself!</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ate Objec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wo Dates: The Date object is also used to compare two dates. Example – Fifth.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Math Objec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ath Object:</a:t>
            </a:r>
            <a:r>
              <a:rPr b="0" lang="en-US" sz="3200" spc="-1" strike="noStrike">
                <a:solidFill>
                  <a:srgbClr val="000000"/>
                </a:solidFill>
                <a:latin typeface="Arial"/>
              </a:rPr>
              <a:t> The Math object allows you to perform mathematical tas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h object includes several mathematical constants and metho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tax for using properties/methods of M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x=Math.PI;</a:t>
            </a:r>
            <a:br>
              <a:rPr sz="3200"/>
            </a:br>
            <a:r>
              <a:rPr b="0" lang="en-US" sz="3200" spc="-1" strike="noStrike">
                <a:solidFill>
                  <a:srgbClr val="000000"/>
                </a:solidFill>
                <a:latin typeface="Arial"/>
              </a:rPr>
              <a:t>var y=Math.sqrt(1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 Sixth.htm..Eighth.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Object Oriented Programm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JavaScri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Objects in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ditional logic to simple browser 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s and functions</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orking with ar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ray is a special variable, which can hold more than one value, at a ti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a list of items (a list of car names, for example), storing the cars in single variables could look like th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car1="Saab";</a:t>
            </a:r>
            <a:br>
              <a:rPr sz="2000"/>
            </a:br>
            <a:r>
              <a:rPr b="0" lang="en-US" sz="2000" spc="-1" strike="noStrike">
                <a:solidFill>
                  <a:srgbClr val="000000"/>
                </a:solidFill>
                <a:latin typeface="Arial"/>
              </a:rPr>
              <a:t>var car2="Volvo";</a:t>
            </a:r>
            <a:br>
              <a:rPr sz="2000"/>
            </a:br>
            <a:r>
              <a:rPr b="0" lang="en-US" sz="2000" spc="-1" strike="noStrike">
                <a:solidFill>
                  <a:srgbClr val="000000"/>
                </a:solidFill>
                <a:latin typeface="Arial"/>
              </a:rPr>
              <a:t>var car3="BM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what if you want to loop through the cars and find a specific one? And what if you had not 3 cars, but 3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solution here is to use an arr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ray can hold all your variable values under a single name. And you can access the values by referring to the array na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lement in the array has its own ID so that it can be easily access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an Arra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ray can be defined in three way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de creates an Array object called myCa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 myCars=new Array(); // regular array (add a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optional integer</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rgument to contro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ray's siz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Cars[0]="Saab"; </a:t>
            </a:r>
            <a:br>
              <a:rPr sz="2800"/>
            </a:br>
            <a:r>
              <a:rPr b="0" lang="en-US" sz="2800" spc="-1" strike="noStrike">
                <a:solidFill>
                  <a:srgbClr val="000000"/>
                </a:solidFill>
                <a:latin typeface="Arial"/>
              </a:rPr>
              <a:t>myCars[1]="Volvo";</a:t>
            </a:r>
            <a:br>
              <a:rPr sz="2800"/>
            </a:br>
            <a:r>
              <a:rPr b="0" lang="en-US" sz="2800" spc="-1" strike="noStrike">
                <a:solidFill>
                  <a:srgbClr val="000000"/>
                </a:solidFill>
                <a:latin typeface="Arial"/>
              </a:rPr>
              <a:t>myCars[2]="BM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an Array</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ondensed arr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 myCars=new Array("Saab","Volvo","BM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literal arr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 myCars=["Saab","Volvo","BM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te:</a:t>
            </a:r>
            <a:r>
              <a:rPr b="0" lang="en-US" sz="2800" spc="-1" strike="noStrike">
                <a:solidFill>
                  <a:srgbClr val="000000"/>
                </a:solidFill>
                <a:latin typeface="Arial"/>
              </a:rPr>
              <a:t> If you specify numbers or true/false values inside the array then the variable type will be Number or Boolean, instead of St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an Arra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refer to a particular element in an array by referring to the name of the array and the index number. The index number starts at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code 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cument.write(myCars[0]);will result in the following outp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a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y Values in an Arra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dify a value in an existing array, just add a new value to the array with a specified index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Cars[0]="Op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w, the following code 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cument.write(myCars[0]);will result in the following outp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is an Object Oriented Programming (OOP) language. An OOP language allows you to define your own objects and make your own variable typ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has properties and method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perties:</a:t>
            </a:r>
            <a:r>
              <a:rPr b="0" lang="en-US" sz="2800" spc="-1" strike="noStrike">
                <a:solidFill>
                  <a:srgbClr val="000000"/>
                </a:solidFill>
                <a:latin typeface="Arial"/>
              </a:rPr>
              <a:t> Properties are the values associated with an obj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ollowing example we are using the length property of the String object to return the number of characters in a string: First.h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Co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hods:</a:t>
            </a:r>
            <a:r>
              <a:rPr b="0" lang="en-US" sz="3200" spc="-1" strike="noStrike">
                <a:solidFill>
                  <a:srgbClr val="000000"/>
                </a:solidFill>
                <a:latin typeface="Arial"/>
              </a:rPr>
              <a:t> Methods are the actions that can be performed on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ollowing example we are using the toUpperCase() method of the String object to display a text in uppercase letters: Second.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ault JavaScript Objec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default JavaScript objects that we are going to see a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Number Objec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mber Object:</a:t>
            </a:r>
            <a:r>
              <a:rPr b="0" lang="en-US" sz="3200" spc="-1" strike="noStrike">
                <a:solidFill>
                  <a:srgbClr val="000000"/>
                </a:solidFill>
                <a:latin typeface="Arial"/>
              </a:rPr>
              <a:t> The Number object is an object wrapper for primitive numeric values. Number objects are created with new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var num = new Number(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String Obje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ring Object:</a:t>
            </a:r>
            <a:r>
              <a:rPr b="0" lang="en-US" sz="3200" spc="-1" strike="noStrike">
                <a:solidFill>
                  <a:srgbClr val="000000"/>
                </a:solidFill>
                <a:latin typeface="Arial"/>
              </a:rPr>
              <a:t> The String object is used to manipulate a stored piece of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objects are created with new St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var txt = new String("</a:t>
            </a:r>
            <a:r>
              <a:rPr b="0" i="1" lang="en-US" sz="3200" spc="-1" strike="noStrike">
                <a:solidFill>
                  <a:srgbClr val="000000"/>
                </a:solidFill>
                <a:latin typeface="Arial"/>
              </a:rPr>
              <a:t>str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more simp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txt = "</a:t>
            </a:r>
            <a:r>
              <a:rPr b="0" i="1" lang="en-US" sz="3200" spc="-1" strike="noStrike">
                <a:solidFill>
                  <a:srgbClr val="000000"/>
                </a:solidFill>
                <a:latin typeface="Arial"/>
              </a:rPr>
              <a:t>string</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Boolean Obj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oolean </a:t>
            </a:r>
            <a:r>
              <a:rPr b="0" lang="en-US" sz="3200" spc="-1" strike="noStrike">
                <a:solidFill>
                  <a:srgbClr val="000000"/>
                </a:solidFill>
                <a:latin typeface="Arial"/>
              </a:rPr>
              <a:t>Object: The Boolean object is used to convert a non-Boolean value to a Boolean value (true or fal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Fourth.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ate Obje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e object is used to work with dates and tim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bjects are created with the Date() construc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our ways of instantiating a d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ate() // current date and time</a:t>
            </a:r>
            <a:br>
              <a:rPr sz="2400"/>
            </a:br>
            <a:r>
              <a:rPr b="0" lang="en-US" sz="2400" spc="-1" strike="noStrike">
                <a:solidFill>
                  <a:srgbClr val="000000"/>
                </a:solidFill>
                <a:latin typeface="Arial"/>
              </a:rPr>
              <a:t>new Date(milliseconds) //milliseconds since 1970/01/01</a:t>
            </a:r>
            <a:br>
              <a:rPr sz="2400"/>
            </a:br>
            <a:r>
              <a:rPr b="0" lang="en-US" sz="2400" spc="-1" strike="noStrike">
                <a:solidFill>
                  <a:srgbClr val="000000"/>
                </a:solidFill>
                <a:latin typeface="Arial"/>
              </a:rPr>
              <a:t>new Date(dateString)</a:t>
            </a:r>
            <a:br>
              <a:rPr sz="2400"/>
            </a:br>
            <a:r>
              <a:rPr b="0" lang="en-US" sz="2400" spc="-1" strike="noStrike">
                <a:solidFill>
                  <a:srgbClr val="000000"/>
                </a:solidFill>
                <a:latin typeface="Arial"/>
              </a:rPr>
              <a:t>new Date(year, month, day, hours, minutes, seconds, milliseco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arameters above are optional. Not specifying, causes 0 to be passed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ate Objec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Date object is created, a number of methods allow you to operate on it. Most methods allow you to get and set the year, month, day, hour, minute, second, and milliseconds of the object, using either local time or UTC (universal, or GMT)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tes are calculated in milliseconds from 01 January, 1970 00:00:00 Universal Time (UTC) with a day containing 86,400,000 milliseco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 of instantiating a d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 today = new Date()</a:t>
            </a:r>
            <a:br>
              <a:rPr sz="2400"/>
            </a:br>
            <a:r>
              <a:rPr b="0" lang="en-US" sz="2400" spc="-1" strike="noStrike">
                <a:solidFill>
                  <a:srgbClr val="000000"/>
                </a:solidFill>
                <a:latin typeface="Arial"/>
              </a:rPr>
              <a:t>var d1 = new Date("October 13, 1975 11:13:00")</a:t>
            </a:r>
            <a:br>
              <a:rPr sz="2400"/>
            </a:br>
            <a:r>
              <a:rPr b="0" lang="en-US" sz="2400" spc="-1" strike="noStrike">
                <a:solidFill>
                  <a:srgbClr val="000000"/>
                </a:solidFill>
                <a:latin typeface="Arial"/>
              </a:rPr>
              <a:t>var d2 = new Date(79,5,24)</a:t>
            </a:r>
            <a:br>
              <a:rPr sz="2400"/>
            </a:br>
            <a:r>
              <a:rPr b="0" lang="en-US" sz="2400" spc="-1" strike="noStrike">
                <a:solidFill>
                  <a:srgbClr val="000000"/>
                </a:solidFill>
                <a:latin typeface="Arial"/>
              </a:rPr>
              <a:t>var d3 = new Date(79,5,24,11,3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fi-U-Zaman</cp:lastModifiedBy>
  <dcterms:modified xsi:type="dcterms:W3CDTF">2011-05-05T15:54:59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