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4242-6E45-4915-B31D-BCA839AB7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7D12-8D38-48AA-AADD-FA966C178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CFC1-E1D4-4735-A61D-BADFE9B8C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68A9-9348-4A02-A7FB-A0E2C4583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53D0-DA8A-4477-9FA5-409B880A4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D7A2-B8A2-49F6-8A38-EC858BED2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24E6-CFBF-4AB9-A799-C880904A4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6516-2E8B-4777-9639-6564C53AA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E00E-C644-4D97-A22B-A68BFBFF9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101E-0E65-437F-B3C0-E0EB4585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BD55-093A-4F75-8256-3C45A43F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5BCB-5CD2-4FDE-9B72-C0316EA5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572D-466A-4245-9B19-E50AD8249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ics of 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 to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s of Object Oriented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s of JavaScript syn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t-In Objects in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conditional logic to simple browser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loops and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ing with arr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orking with HTML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Validating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fi-U-Zaman</cp:lastModifiedBy>
  <dcterms:modified xsi:type="dcterms:W3CDTF">2011-05-08T09:35:26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