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08EC5-FBD7-47EC-A020-ACA79060A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37CDD-3E1A-4E6D-BA0A-A464D12A2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AD87C-3196-49C9-94E6-37783F59F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070FF-0DA2-4AA1-B931-4DA8BD593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E4046-BAF1-416B-BD4C-064EC4E2C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3EF2A-8C1B-473F-AA55-8DA54C324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3E006-294E-42E0-9E84-BBC45E94C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A9DC6-3E20-4000-AF86-92C240D78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B8C56-B05C-4DD1-AF44-F859A7E3C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2B5D9-80CE-4763-8D6A-8F0D37BB3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82028-F9BA-440E-8112-625F92327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0B580-AE78-496B-BFFE-5C71FAC0B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72BD-D94F-448E-A2CF-DCAB6E114D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 of Discussion</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HTM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ting tex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s, color and anima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layout with tab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ext links</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TML f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interactive web pa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TM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TML form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forms are used to pass data to a 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 can contain input elements like text fields, checkboxes, radio-buttons, submit buttons and more. A form can also contain select lists, text area, field set, legend, and label el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t;form&gt; tag is used to create an HTML 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Forms - The Input Element</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important form element is the input element. The input element is used to select user information. An input element can vary in many ways, depending on the type attribute. An input element can be of type text field, checkbox, password, radio button, submit button, and m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used input types are described be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put Typ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ext Field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input type="text" /&gt; defines a one-line input field that a user can enter text in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 First.ht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assword Fiel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input type="password" /&gt; defines a password fiel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 Second.ht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adio Butt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input type="radio" /&gt; defines a radio button. Radio buttons let a user select ONLY ONE one of a limited number of choic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 Third.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put Types (Con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heckbox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input type="checkbox" /&gt; defines a checkbox. Checkboxes let a user select ONE or MORE options of a limited number of choi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 Fourth.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Drop Down Li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 Fifth.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Submit Butt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input type="submit" /&gt; defines a submit butt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submit button is used to send form data to a server. The data is sent to the page specified in the form's action attribute. The file defined in the action attribute usually does something with the received inp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Form Desig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ing a feed back fo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fi-U-Zaman</cp:lastModifiedBy>
  <dcterms:modified xsi:type="dcterms:W3CDTF">2011-05-02T14:36:58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