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EC2B-76A6-4281-BE25-B8F9CE92B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9252-BC69-4948-996B-C2CCF01EF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97DBC47-5A34-40C3-BCDE-A6796AB9B63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08AB22C-CCCA-47A0-9BE7-553FC438352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sset Identification and 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This iterative process begins with the identification of assets, including all of the elements of an organization’s system: people, procedures, data and information, software, hardware, and networking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Then, we classify and categorize the assets adding details as we dig deeper into the analysis.</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AF466CF-FD94-40E3-8078-C1A08091D4D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93FF455-4B85-42A6-AB0B-235EB4BBBF8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eople, Procedures, and Data Asset Identification</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nlike the tangible hardware and software elements already described, the human resources, documentation, and data information assets are not as readily discovered and documented. </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assets should be identified, described, and evaluated by people using knowledge, experience, and judgment. </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these elements are identified, they should also be recorded into some reliable data-handling process. </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 People:</a:t>
            </a:r>
            <a:endParaRPr b="0" lang="en-US" sz="1200" spc="-1" strike="noStrike">
              <a:solidFill>
                <a:srgbClr val="000000"/>
              </a:solidFill>
              <a:latin typeface="Calibri"/>
            </a:endParaRPr>
          </a:p>
          <a:p>
            <a:pPr lvl="1" marL="457200">
              <a:spcBef>
                <a:spcPts val="499"/>
              </a:spcBef>
              <a:spcAft>
                <a:spcPts val="499"/>
              </a:spcAft>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Position name/number/ID – Try to stay away from names and stick to identifying positions, roles or functions</a:t>
            </a:r>
            <a:endParaRPr b="0" lang="en-US" sz="1200" spc="-1" strike="noStrike">
              <a:solidFill>
                <a:srgbClr val="000000"/>
              </a:solidFill>
              <a:latin typeface="Calibri"/>
            </a:endParaRPr>
          </a:p>
          <a:p>
            <a:pPr lvl="1" marL="457200">
              <a:spcBef>
                <a:spcPts val="499"/>
              </a:spcBef>
              <a:spcAft>
                <a:spcPts val="499"/>
              </a:spcAft>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upervisor</a:t>
            </a:r>
            <a:endParaRPr b="0" lang="en-US" sz="1200" spc="-1" strike="noStrike">
              <a:solidFill>
                <a:srgbClr val="000000"/>
              </a:solidFill>
              <a:latin typeface="Calibri"/>
            </a:endParaRPr>
          </a:p>
          <a:p>
            <a:pPr lvl="1" marL="457200">
              <a:spcBef>
                <a:spcPts val="499"/>
              </a:spcBef>
              <a:spcAft>
                <a:spcPts val="499"/>
              </a:spcAft>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ecurity clearance level</a:t>
            </a:r>
            <a:endParaRPr b="0" lang="en-US" sz="1200" spc="-1" strike="noStrike">
              <a:solidFill>
                <a:srgbClr val="000000"/>
              </a:solidFill>
              <a:latin typeface="Calibri"/>
            </a:endParaRPr>
          </a:p>
          <a:p>
            <a:pPr lvl="1" marL="457200">
              <a:spcBef>
                <a:spcPts val="499"/>
              </a:spcBef>
              <a:spcAft>
                <a:spcPts val="499"/>
              </a:spcAft>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peci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84CA844-F925-433D-8812-D0969343274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Hardware, Software, and Network Asset 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utomated tools can sometimes uncover the system elements that make up the hardware, software, and network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created and stored, the inventory listing must be kept current, often through a tool that periodically refreshes the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10DA7AD-B732-4E67-8068-62536F3DF77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ata Classification and Management</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variety of classification schemes are used by corporate and military organiz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owners are responsible for classifying the information assets for which they are respon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least once a year, information owners must review information classifications to ensure the information is still classified correctly and the appropriate access controls are in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S. Military Classification Scheme has a more complex categorization system than required by most corporations. For most information, the military uses a five-level classification scheme: Unclassified, Sensitive But Unclassified (i.e., For Official Use Only), Confidential, Secret, and Top Secr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ost organizations do not need the detailed level of classification used by the military or federal agencies. A simple scheme will allow the organization to protect its sensitive information, such as: Public, For official use only, Sensitive, Class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DFD3C11-C6DA-4602-9D3C-22046179EFC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Cl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ther side of the data classification scheme is the personnel security clearance structure. For each user of data in the organization, a single level of authorization must be assigned, indicating the level of classification he or she is authorized to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fore individuals are allowed access to a specific set of data, they must meet the need-to-know requi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extra level of protection ensures that the confidentiality of information is properly main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nagement of Classified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equirements for the management of information include the storage, distribution, portability, and destruction of classified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that has a classification designation other than unclassified or public must be clearly marked as su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lassified data is stored, it must be unavailable to unauthorized individu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individual carries classified information, it should be inconspicuous, as in a locked briefcase or portfol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t>
            </a:r>
            <a:r>
              <a:rPr b="1" lang="en-GB" sz="1200" spc="-1" strike="noStrike">
                <a:solidFill>
                  <a:srgbClr val="000000"/>
                </a:solidFill>
                <a:latin typeface="Calibri"/>
                <a:ea typeface="Lucida Sans Unicode"/>
              </a:rPr>
              <a:t>clean desk policy</a:t>
            </a:r>
            <a:r>
              <a:rPr b="0" lang="en-GB" sz="1200" spc="-1" strike="noStrike">
                <a:solidFill>
                  <a:srgbClr val="000000"/>
                </a:solidFill>
                <a:latin typeface="Calibri"/>
                <a:ea typeface="Lucida Sans Unicode"/>
              </a:rPr>
              <a:t> requires each employee to secure any and all information in its appropriate storage container at the end of each 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lassified information is no longer valuable or excessive copies exist, proper care should be taken to destroy any unneeded copies through shredding, burning, or transfer to an authorized document destruction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those individuals who would not hesitate to engage in </a:t>
            </a:r>
            <a:r>
              <a:rPr b="1" lang="en-GB" sz="1200" spc="-1" strike="noStrike">
                <a:solidFill>
                  <a:srgbClr val="000000"/>
                </a:solidFill>
                <a:latin typeface="Calibri"/>
                <a:ea typeface="Lucida Sans Unicode"/>
              </a:rPr>
              <a:t>dumpster diving</a:t>
            </a:r>
            <a:r>
              <a:rPr b="0" lang="en-GB" sz="1200" spc="-1" strike="noStrike">
                <a:solidFill>
                  <a:srgbClr val="000000"/>
                </a:solidFill>
                <a:latin typeface="Calibri"/>
                <a:ea typeface="Lucida Sans Unicode"/>
              </a:rPr>
              <a:t> to retrieve information that could prove embarrassing or compromise the security of information in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AE2AE97-96B4-4AD4-8796-7C5C470A60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Asset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Many organizations already have a classification sche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Examples of these kinds of classifications are confidential data, internal data, and public data. Informal organizations may have to organize themselves to create a usable data classification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The other side of the data classification scheme is the personnel security clearance structure, identifying the level of information each individual is authorized to view, based on his or her need-to-kn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3456D6F-4DF2-49C4-9F96-5F4D9EFA6EE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Asset 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each asset of the organization is assigned to its category, these questions will assist in developing the criteria to be used for asset valu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ch information asset is the most critical to the success of the organization?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ch information asset generates the most revenu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ch information asset generates the most profitabil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ch information asset would be the most expensive to replac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ch information asset would be the most expensive to protec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ch information asset would be the most embarrassing or cause the greatest liability if revea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B0D12FC-8713-4E58-A650-3EA9DA361F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B120B74-6D8E-4D61-A3A2-BCA625C3325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you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fine risk management, risk identification, and risk control</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how risk is identified and assessed</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 risk based on probability of occurrence and likely impact</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e fundamental aspects of documenting risk via the process of risk assessment</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BC3A30F-64E6-46C7-862D-41DED462670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Asset Valuation (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order to finalize this step of the information asset identification process, each organization should create a weighting for each category based on the answers to the previous ques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ch factor is the most important to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each question has been weighted, calculating the importance of each asset is straightforward. The final step is to list the assets in order of importance. This can be achieved by using a weighted factor analysis work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A26E785-FBE5-458A-92B7-DAD48FE13BD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B632852-450D-40A7-A854-F82588D508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reat 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ach of these threats identified has the potential to attack any of the assets prot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we assume every threat can and will attack every information asset, this will quickly become more complex and overwhelm the ability to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make this part of the process manageable, each step in the threat identification and vulnerability identification process is managed separately and then coordinated at the end of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6E2CF94-1F36-4822-91CD-D74BC7A64F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32C3828-9CAF-4754-94BD-51ECF06047C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Vulnerability 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e now face the challenge of reviewing each information asset for each threat it faces and creating a list of the vulnerabilities that remain viable risks to the organiz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ulnerabilities are specific avenues that threat agents can exploit to attack an information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7C3240A-9CC5-421C-9E6C-A8CC12A7959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Times New Roman"/>
              </a:rPr>
              <a:t>Risk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We can determine the relative risk for each of the vulnerabilities through a process called </a:t>
            </a:r>
            <a:r>
              <a:rPr b="1" lang="en-GB" sz="1200" spc="-1" strike="noStrike">
                <a:solidFill>
                  <a:srgbClr val="000000"/>
                </a:solidFill>
                <a:latin typeface="Calibri"/>
                <a:ea typeface="Times New Roman"/>
              </a:rPr>
              <a:t>risk assessment</a:t>
            </a:r>
            <a:r>
              <a:rPr b="0" lang="en-GB"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Risk assessment assigns a risk rating or score to each specific information asset, which is useful in gauging the relative risk introduced by each vulnerable information asset and making comparative ratings later in the risk contro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E528E04-FDF6-42C8-A244-CA7296251B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B56DF49-70FB-45AA-A6F3-0FC4DA5D6BB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isk Deter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 the purpose of relative risk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risk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ikelihood of vulnerability occur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value (or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min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percentage risk already contro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l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an element of uncertainty</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DEF188C-33E4-4B86-8CCB-CE930AD23E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dentify Possible Contr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 each threat and its associated vulnerabilities that have any residual risk, create a preliminary list of control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esidual risk</a:t>
            </a:r>
            <a:r>
              <a:rPr b="0" lang="en-GB" sz="1200" spc="-1" strike="noStrike">
                <a:solidFill>
                  <a:srgbClr val="000000"/>
                </a:solidFill>
                <a:latin typeface="Calibri"/>
                <a:ea typeface="Lucida Sans Unicode"/>
              </a:rPr>
              <a:t> is the risk that remains to the information asset even after the existing control has been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AD5FA24-F40E-4FB1-83BD-B1856102BF6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ocumenting Results of Risk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goal of this process has been to identify the information assets of the organization that have specific vulnerabilities and create a list of them, ranked for focus on those most needing protection fir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preparing this list, we have collected and preserved a wealth of factual information about the assets, the threats they face, and the vulnerabilities they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e should also have collected some information about the controls that are alread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798A066-38E9-4C64-8860-ADDC2C790FF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you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various risk mitigation strategy option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 the categories that can be used to classify contro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ze the conceptual frameworks for evaluating risk controls and formulate a cost benefit analysi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how to maintain and perpetuate risk control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AE5E90-7509-4610-9B7D-06995A70F17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F26E5B6-D4CD-4208-8591-45683965BEE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isk Control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organizational management has determined that risks from information security threats are creating a competitive disadvantage, they empower the information technology and information security communities of interest to control the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the project team for information security development has created the Ranked Vulnerability Worksheet, the team must choose one of four basic strategies to control the risks that result from these vulnera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our risk strategies guide an organization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 Apply safeguards that eliminate or reduce the remaining uncontrolled risks for the vulnerability (avoi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2. Transfer the risk to other areas or to outside entities (transference)</a:t>
            </a:r>
            <a:r>
              <a:rPr b="0" lang="ar-SA"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3. Reduce the impact should the vulnerability be exploited (mitigation)</a:t>
            </a:r>
            <a:r>
              <a:rPr b="0" lang="ar-SA"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4. Inform themselves of all of the consequences and accept the risk without control or mitigation (acceptance)</a:t>
            </a:r>
            <a:r>
              <a:rPr b="0" lang="ar-SA"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EF650AC-3063-4A5C-BB17-31EC5850587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f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fend is the risk control strategy that attempts to prevent the realization or exploitation of the vulnerability. This is the preferred approach, as it seeks to avoid risk in its entirety rather than deal with it after it has been reali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voidance is accomplished through countering threats, removing vulnerabilities in assets, limiting access to assets, and/or adding protective safegu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st common methods of avoidance involve three areas of controls, avoidance through application of policy, training and education, and tech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BBBC302-8456-472C-B2A0-602AC11DBD1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ransf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ransfer is the control approach that attempts to shift the risk to other assets, other processes, or other organiz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an organization does not already have quality security management and administration experience, it should hire individuals or firms that provide such expert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allows the organization to transfer the risk associated with the management of these complex systems to another organization with established experience in dealing with those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ADEA239-6397-458C-A9CA-EA6DBCEC1CE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body"/>
          </p:nvPr>
        </p:nvSpPr>
        <p:spPr>
          <a:xfrm>
            <a:off x="914400" y="4343400"/>
            <a:ext cx="5029200" cy="816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i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itigation is the control approach that attempts to reduce the impact caused by the exploitation of vulnerability through planning and prepa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approach includes three types of plans: disaster recovery planning (DRP), business continuity planning (BCP), and incident response planning (IR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itigation begins with the early detection that an attack is in pro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st common of the mitigation procedures is the disaster recovery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RP includes the entire spectrum of activities to recover from an incident. The DRP can include strategies to limit losses before and during the disas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RPs usually include all preparations for the recovery process, strategies to limit losses during the disaster, and detailed steps to follow when the disaster has 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tions an organization can and perhaps should take while the incident is in progress should be defined in a document referred to as the incident response plan or IR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RP provides answers to questions victims might pose in the midst of a disa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nswers the question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do I do NOW?!</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should the administrators do firs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o should they contac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should they docu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RP and IRP planning overlap to a degree. In many regards, the DRP is the subsection of the IRP that covers disastrous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some DRP and IRP decisions and actions are the same, their urgency and results can differ dramat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RP focuses more on preparations completed before and actions taken after the incident, while the IRP focuses on intelligence gathering, information analysis, coordinated decision making, and urgent, concrete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ird type of planning document under mitigation is the business continuity plan or BC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CP is the most strategic and long-term plan of the three plans. It encompasses the continuation of business activities if a catastrophic event occurs, such as the loss of an entire database, building, or operations cen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CP includes planning for the steps to insure the continuation of the organization when the scope or scale of a disaster exceeds the DRP’s ability to restore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EA1FA91-677A-4881-976D-3C0007F8490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body"/>
          </p:nvPr>
        </p:nvSpPr>
        <p:spPr>
          <a:xfrm>
            <a:off x="914400" y="4343040"/>
            <a:ext cx="5029200" cy="442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cce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 the acceptance control approach, an organization evaluates the risk of a vulnerability and allows the risky state to continue as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nly acceptance strategy that is recognized as valid occurs when the organization ha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etermined the level of risk </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Assessed the probability of attack </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Estimated the potential damage that could occur from these attack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Performed a thorough cost benefit analysi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Evaluated controls using each appropriate type of feasibility </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ecided that the particular function, service, information, or asset did not justify the cost of prot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ceptance of risk is the choice to do nothing to protect a vulnerability and to accept the outcome of its exploi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ntrol, or rather lack of control, is based on the assumption that it may be a prudent business decision to examine the alternatives and determine that the cost of protecting an asset does not justify the security expendi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rm risk appetite is used to describe the degree to which an organization is willing to accept risk as a trade-off to the expense of applying controls.</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rmi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inate control strategy directs the organization to avoid those business activities that introduce uncontrollable risks.</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B173-1048-436A-AF63-2BEBC59A1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5E966BC-589E-41F0-A599-07A1161F2F5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itigation Strategy Selection</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level of threat and value of the asset should play a major role in the selection of strate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ollowing rules of thumb can be applied in selecting the preferred strateg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When a vulnerability exists, implement assurance techniques to reduce the likelihood of a vulnerability being exercised.</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When a vulnerability can be exploited, apply layered protections, architectural designs, and administrative controls to minimize the risk or prevent this occurrence.</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When the attacker’s cost is less than his or her potential gain, apply protections to increase the attacker’s cost (e.g., use system controls to limit what a system user can access and do, thereby significantly reducing an attacker’s gain).</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potential loss is substantial, apply design principles, architectural designs, and technical and nontechnical protections to limit the extent of the attack, thereby reducing the potential fo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3BB3467-6D14-42F8-9357-C6B34F5BA68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B85D2DB-1930-4118-AF1C-217602EB848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Times New Roman"/>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The Security Systems Development Life Cycle (or SecSDLC) is a process framework or methodology that can be used in a flexible fashion to assist organizations in deploying information security initia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Times New Roman"/>
              </a:rPr>
              <a:t>Risk identification</a:t>
            </a:r>
            <a:r>
              <a:rPr b="0" lang="en-GB" sz="1200" spc="-1" strike="noStrike">
                <a:solidFill>
                  <a:srgbClr val="000000"/>
                </a:solidFill>
                <a:latin typeface="Calibri"/>
                <a:ea typeface="Times New Roman"/>
              </a:rPr>
              <a:t> is the formal process of examining and documenting the current information technology security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Risk identification is conducted within the larger process of identifying and justifying risk controls, known as </a:t>
            </a:r>
            <a:r>
              <a:rPr b="1" lang="en-GB" sz="1200" spc="-1" strike="noStrike">
                <a:solidFill>
                  <a:srgbClr val="000000"/>
                </a:solidFill>
                <a:latin typeface="Calibri"/>
                <a:ea typeface="Times New Roman"/>
              </a:rPr>
              <a:t>risk management</a:t>
            </a:r>
            <a:r>
              <a:rPr b="0" lang="en-GB"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27541ED-1436-460B-BB9C-A10107B6605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Feasibility Studies and the Cost Benefi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fore deciding on the strategy for a specific vulnerability, all information about the economic and noneconomic consequences of the vulnerability facing the information asset must be expl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undamentally we are asking, “What are the actual and perceived advantages of implementing a control contrasted with the actual and perceived disadvantages of implementing the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F851967-54D8-48D3-8994-0001A585C5B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st Benefit Analysis (CBA)</a:t>
            </a:r>
            <a:r>
              <a:rPr b="1" lang="ar-SA"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pproach most commonly considered for a project of information security controls and safeguards is the economic feasibility of implem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organization begins by evaluating the worth of the information assets to be protected and the loss in value if those information assets are compromised by the specific vulner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only common sense that an organization should not spend more to protect an asset than it is w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ormal process to document this is called a cost benefit analysis or an economic feasibility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BA: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of the items that impact the cost of a control or safeguard inclu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Cost of development or acquisition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Training fee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Cost of implementation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ervice cos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Cost of mainte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27AB9B2-2BC6-4A1C-8A17-8C67F66A841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BA: Loss Estim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an organization has estimated the worth of various assets, it can begin to examine the potential loss that could occur from the exploitation of vulnerability or a threat occurrence. This process results in the estimate of potential loss per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questions that must be asked here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damage could occur, and what financial impact would it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would it cost to recover from the attack, in addition to the costs from the previous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is the single loss expectancy for each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0E132D2-0F9F-421B-9192-AE4B41CEFC6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BA: Formu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its simplest definition, CBA is whether or not the control alternative being evaluated is worth the associated cost incurred to control the specific vulner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many CBA techniques exist, for our purposes, the CBA is most easily calculated using the ALE from earlier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BA = ALE(prior) – ALE(post) – 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E prior is the Annualized Loss Expectancy of the risk before the implementation of the contr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E post is the ALE examined after the control has been in place for a period of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S is the Annual Cost of the Safegu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5C1C1BC-60FF-4657-9657-3CE834CE6C3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FD839D3-19AA-432F-9DE3-B0595531A90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5E76792-9E9E-4434-9505-7F48A1C25B2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7BED11C-BEE4-4684-8A6B-A3A7F0F50AD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1"/>
          <p:cNvSpPr>
            <a:spLocks noGrp="1"/>
          </p:cNvSpPr>
          <p:nvPr>
            <p:ph type="body"/>
          </p:nvPr>
        </p:nvSpPr>
        <p:spPr>
          <a:xfrm>
            <a:off x="914400" y="4343400"/>
            <a:ext cx="5029200" cy="792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enchma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alternative strategy to the cost benefit analysis and its attempt to place a hard dollar figure on each information asset is to approach risk management from a different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stead of determining the financial value of information and then implementing security as an acceptable percentage of that value, an organization could look at peer institutions to determine what others are doing to protect their information (benchmar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nchmarking is the process of seeking out and studying the practices used in other organizations that produce the results you desire in your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benchmarking, an organization typically uses one of two measures to compare practices, to determine which practices it would prefer to impl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are metrics-based measures and process-based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etrics-based measures are comparisons based on numerical standards, such a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Numbers of successful attack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taff-hours spent on systems protection</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ollars spent on protection</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Numbers of security personnel</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Estimated losses in dollars of information due to successful attack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oss in productivity hours associated with successful 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organization uses this information by ranking competitive businesses within a similar size or market and determining how their measures compare to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cess-based measures are generally less number-focused and more strategic than metrics-based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 each of the areas the organization is interested in benchmarking, process-based measures enable the companies to examine the activities an individual company performs in pursuit of its goal, rather than the specifics of how goals were atta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primary focus is the method the organization uses to accomplish a particular process, rather than the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information security, two categories of benchmarks are used: standards of due care/due diligence and best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in best practices is a subcategory of practices referred to as the gold standard, those practices typically viewed as “the best of the b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C9953E3-5A75-4D41-BF75-D61DE1D6BE3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ue Care/Due Dilig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organizations adopt levels of security for a legal </a:t>
            </a:r>
            <a:r>
              <a:rPr b="0" lang="en-US" sz="1200" spc="-1" strike="noStrike">
                <a:solidFill>
                  <a:srgbClr val="000000"/>
                </a:solidFill>
                <a:latin typeface="Calibri"/>
                <a:ea typeface="Lucida Sans Unicode"/>
              </a:rPr>
              <a:t>defense</a:t>
            </a:r>
            <a:r>
              <a:rPr b="0" lang="en-GB" sz="1200" spc="-1" strike="noStrike">
                <a:solidFill>
                  <a:srgbClr val="000000"/>
                </a:solidFill>
                <a:latin typeface="Calibri"/>
                <a:ea typeface="Lucida Sans Unicode"/>
              </a:rPr>
              <a:t>, they may need to show that they have done what any prudent organization would do in similar circumstances. This is referred to as a standard of due c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insufficient to just implement these standards and then ignore them. The application of controls at or above the prescribed levels and the maintenance of those standards of due care show that the organization has performed due dilig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e diligence is the demonstration that the organization is diligent in ensuring that the implemented standards continue to provide the required level of prot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ailure to support a standard of due care or due diligence can open an organization to legal liability, provided it can be shown that the organization was negligent in its application or lack of application of information prot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4C2B0A8-9D63-413F-B1B9-3E85EC060BE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body"/>
          </p:nvPr>
        </p:nvSpPr>
        <p:spPr>
          <a:xfrm>
            <a:off x="914400" y="4343040"/>
            <a:ext cx="5029200" cy="4381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est Busines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efforts that seek to provide a superior level of performance in the protection of information are referred to as best business practices or simply best practices or recommended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st security practices (BSPs) are those security efforts that are among the best in the industry, balancing the need to access with the need to provide adequate prot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st practices seek to provide as much security as possible for information and systems while maintaining a solid degree of fiscal responsi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onsidering best practices for adoption in your organization, consider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oes your organization resemble the identified target organization of the bes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re the resources you can expend similar to those identified in the best practice? A best practice proposal that assumes unlimited funding and does not identify needed trade-offs will be of limited value if your approach has strict resourc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re you in a similar threat environment as that proposed in the best practice? A proposal of best practice from months and even weeks ago may not be appropriate for the current threat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3D7AC6F-F83E-4826-8DDC-EBBADD9BBD6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Know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First, we must identify, examine, and understand the information and systems current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In order to protect our assets, defined here as the information and the systems that use, store, and transmit it, we have to understand everything about th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Once we have examined these aspects, we can then look at what we are already doing to protect the information and systems from the thr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F1491C8-8DAA-44DD-A996-FE2B5C47BFF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oblems with Benchmarking and Best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iggest problem with benchmarking in information security is that organizations don’t talk to each 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other problem with benchmarking is that no two organizations are ident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third problem is that best practices are a moving target. What worked well two years ago may be completely worthless against today’s thr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e last issue to consider is that simply knowing what was going on a few years ago, as in benchmarking, doesn’t necessarily tell us what to do nex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97969AB-5382-40D2-8C30-44169ECB522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asel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selining is the analysis of measures against established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information security, baselining is the comparison of security activities and events against the organization’s future perform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baselining, it is useful to have a guide to the overall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0ABF7DD-8CBC-43BF-A4C1-BE35555E05A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Organizational Fea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rganizational feasibility examines how well the proposed information security alternatives will contribute to the efficiency, effectiveness, and overall operation of an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bove and beyond the impact on the bottom line, the organization must determine how the proposed alternatives contribute to the business objectives of the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E8E162B-93E0-490D-A9F6-7F784C16EEC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isk Management Discussion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ot every organization has the collective will to manage each vulnerability through the application of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pending on the willingness to assume risk, each organization must define its risk appet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isk appetite defines the quantity and nature of risk that organizations are willing to accept as they evaluate the trade-offs between perfect security and unlimited acces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F0D4AEC-D84F-42C6-8563-4B9533B85E8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17C9F92-D8BD-478C-A896-557A55E27F0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ocumenting Results</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minimum, each information asset-vulnerability pair should have a documented control strategy that clearly identifies any residual risk remaining after the proposed strategy has been execu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organizations document the outcome of the control strategy for each information asset-vulnerability pair as an acti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action plan includes concrete tasks, each with accountability assigned to an organizational unit or to an individ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1EFB0A6-FD40-4830-8C79-3E188273D6A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ecommended Practices in Controlling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e must convince budget authorities to spend up to the value of the asset to protect a particular asset from an identified thre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ach and every control or safeguard implemented will impact more than one threat-asset pai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tween the impossible task associated with the valuation of information assets and the dynamic nature of the ALE calculations, it’s no wonder organizations are looking for a more straightforward method of implementing controls that doesn’t involve such imperfect calcu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BF4A51D-452C-4884-900B-0BD295B91E4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FF1D5DE-7F51-4724-907C-C845A908FED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432CF77-9709-408F-B38F-28381EF09BE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isk Management Proces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the risk contro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ing which control options are cost effective for the organization</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quiring or installing the needed contro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ing that the controls remain 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01E9636-4AE5-4CD3-8726-C4C14DE4B32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isk 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A risk management strategy calls on us to “know ourselves” by identifying, classifying, and prioritizing the organization’s information ass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These assets are the targets of various threats and threat agents, and our goal is to protect them from these thr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Once we have gone through the process of self-examination, we then move into threat ident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We must assess the circumstances and setting of each information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To begin managing the risk from the vulnerabilities, we must identify those vulnerabilities and begin exploring the controls that might be used to manage the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We begin the process by identifying and assessing the value of our information ass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AD5ECC-F93B-44F0-8B2A-B812008301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208A78-A3F7-4F4F-A2C0-AC590B3FB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25F5CA-D713-4691-AEB5-F3AF4C0E93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5911FD-150E-4C06-B39D-3CEA4F71AE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2A388-8669-4BD9-BF53-2D03B57D2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3CA356-786C-4523-B6E8-0BCADACB52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B59AAD-0C28-4712-AFA5-F651E53D9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DFDC0-6EA4-471E-B7C8-1C3DC16C6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45B924-DB5C-4A7E-9ADC-50B1723E6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A69B4F-388F-4D7E-AF23-146F468E2A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6F2F37-C27A-4B13-AC00-6EB78463F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D7A14-5F68-44C9-A255-86FA0FE4A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1B362-ED1F-403A-BC28-E59C2F596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55AB4-DE15-41E4-8406-EA134683D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9F226-554F-4CD8-84CF-2B76DED3D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F18E4-BC5E-4EA4-BBAA-B665746F1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90CF0-79F3-4DEE-9BE9-ACB937D1A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D0C24C-BA8F-434B-B29D-A8834C2F77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B81268-C0D2-4E1F-B12C-392952A5D6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8FECE3-3DB7-4FA8-AA3A-FD567B5D38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EF81B6-C6C1-4CD8-A4FD-1738E1D6E9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98174D-CDD5-4EA5-8A48-781C4DA5D3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CF568F-5390-4674-8CC8-3602DE1953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49F3FE-3C7D-4C32-A020-BFE8A87957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E29E7E-D5EB-4A19-83AD-7068BF9CEC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33D46B-0A26-4BC6-8C0B-820695B934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66C520-1ED7-4D3C-9AB2-97BB4B3219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643CE0-1957-4D41-A973-90C94C365B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B290B1-5B29-42CE-A0BB-0DF00F819F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3518EA-A85E-496C-A3ED-3309F712B2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047744-F60F-47FE-9063-4EE13E93674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E3496C-002A-4165-9D3D-8A1A658054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E1FE44-AC88-4B0D-BA5C-25A6078341C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54E56B3-F0D0-4812-A8E3-E73C16AF03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02D06FBF-60E5-486B-A6F7-172C5CE4D70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E142C1F8-DFBD-4830-B609-D43D041491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D44C928F-E1AA-4DD9-B60B-A6DF11A8DE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64F9DF33-7694-4EA1-A127-9AEB4247647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B2222AF3-36AF-4B83-B06A-25F395B27A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B93C21AF-1573-44B1-B517-594E653042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5C396ED5-A554-4CBF-9510-E478F1FD07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30CA02AB-6A0D-4EC8-82D3-9D8A768B2D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99097-E623-47F4-96B7-AFDBA89CBD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024FA96F-6954-4BC3-AEF7-84648288681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BCC1367A-D844-4E99-8370-E130884F9C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5265BA9F-E0B1-4917-9D35-6FD4B162FA8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8897DFE-F9C3-404F-ADEE-3485108926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7DCB3F-6560-4DEE-BCD8-6051B5D3E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FD5F74-0E0F-4ED4-A4C7-59FDC2A7A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E66875-810C-44D9-85A4-70078A047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9176EF-A695-4101-BE23-770DFFFC5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605F217-B0AC-4644-8CA2-861837D35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D98622-459A-4DA0-B705-4FDD093B1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614E52-BF57-4C1A-BA87-B4F1F93006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50B16F-20D5-4DD6-B3F8-E495D2DBC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866028-7662-44B8-8336-EA85847FA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0732FF-B83D-4EA9-9620-5465FA1315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E915EB9-7A43-43D8-928A-705BF566C5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61428B-26E5-4268-A8ED-BB0EE37802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4EAB2A-322A-4F06-801E-8F1F54AD1F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F511-AC7D-4C91-8C0A-2B34874878AF}"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CEF1-A506-4E26-92D0-EE2327BB5892}"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3784-C940-49B5-90B7-ACDCD6513F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FC74-3C3A-40AB-B254-D9E009FE026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C117-D7F1-4B5A-A0FF-251BC4D561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D4FA-9AD2-43CC-89E0-BCFF19D8CC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A5DE-869F-4AEB-A639-BACD41ECF8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2222"/>
                </a:solidFill>
                <a:latin typeface="Arial"/>
              </a:rPr>
              <a:t>Principles of Information Security, </a:t>
            </a:r>
            <a:br>
              <a:rPr sz="4400"/>
            </a:br>
            <a:r>
              <a:rPr b="1" lang="en-US" sz="4400" spc="-1" strike="noStrike">
                <a:solidFill>
                  <a:srgbClr val="222222"/>
                </a:solidFill>
                <a:latin typeface="Arial"/>
              </a:rPr>
              <a:t>Fourth Edition</a:t>
            </a:r>
            <a:endParaRPr b="0" lang="en-US" sz="4400" spc="-1" strike="noStrike">
              <a:solidFill>
                <a:srgbClr val="222222"/>
              </a:solidFill>
              <a:latin typeface="Arial"/>
            </a:endParaRPr>
          </a:p>
        </p:txBody>
      </p:sp>
      <p:sp>
        <p:nvSpPr>
          <p:cNvPr id="281" name="PlaceHolder 2"/>
          <p:cNvSpPr>
            <a:spLocks noGrp="1"/>
          </p:cNvSpPr>
          <p:nvPr>
            <p:ph type="subTitle"/>
          </p:nvPr>
        </p:nvSpPr>
        <p:spPr>
          <a:xfrm>
            <a:off x="609120" y="3352680"/>
            <a:ext cx="8077320" cy="144792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4</a:t>
            </a:r>
            <a:endParaRPr b="0" lang="en-US" sz="3400" spc="-1" strike="noStrike">
              <a:solidFill>
                <a:srgbClr val="222222"/>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Risk Management</a:t>
            </a:r>
            <a:endParaRPr b="0" lang="en-US" sz="3400" spc="-1" strike="noStrike">
              <a:solidFill>
                <a:srgbClr val="222222"/>
              </a:solidFill>
              <a:latin typeface="Arial"/>
            </a:endParaRPr>
          </a:p>
        </p:txBody>
      </p:sp>
      <p:pic>
        <p:nvPicPr>
          <p:cNvPr id="282" name="Picture 3" descr="Cengage_1.jpg"/>
          <p:cNvPicPr/>
          <p:nvPr/>
        </p:nvPicPr>
        <p:blipFill>
          <a:blip r:embed="rId1"/>
          <a:stretch/>
        </p:blipFill>
        <p:spPr>
          <a:xfrm>
            <a:off x="0" y="0"/>
            <a:ext cx="3666960" cy="914400"/>
          </a:xfrm>
          <a:prstGeom prst="rect">
            <a:avLst/>
          </a:prstGeom>
          <a:ln w="0">
            <a:noFill/>
          </a:ln>
        </p:spPr>
      </p:pic>
      <p:pic>
        <p:nvPicPr>
          <p:cNvPr id="283" name="Picture 3" descr=""/>
          <p:cNvPicPr/>
          <p:nvPr/>
        </p:nvPicPr>
        <p:blipFill>
          <a:blip r:embed="rId2"/>
          <a:stretch/>
        </p:blipFill>
        <p:spPr>
          <a:xfrm>
            <a:off x="4492800" y="4678200"/>
            <a:ext cx="4651200" cy="16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1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BA8B-4BBA-4509-A58B-9C22AEB0A7D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18" name="Picture 5" descr=""/>
          <p:cNvPicPr/>
          <p:nvPr/>
        </p:nvPicPr>
        <p:blipFill>
          <a:blip r:embed="rId1"/>
          <a:stretch/>
        </p:blipFill>
        <p:spPr>
          <a:xfrm>
            <a:off x="519120" y="380880"/>
            <a:ext cx="8167680" cy="5067360"/>
          </a:xfrm>
          <a:prstGeom prst="rect">
            <a:avLst/>
          </a:prstGeom>
          <a:ln w="0">
            <a:noFill/>
          </a:ln>
        </p:spPr>
      </p:pic>
      <p:sp>
        <p:nvSpPr>
          <p:cNvPr id="319" name="Rectangle 5"/>
          <p:cNvSpPr/>
          <p:nvPr/>
        </p:nvSpPr>
        <p:spPr>
          <a:xfrm>
            <a:off x="2133720" y="557388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2 Components of Risk Identificatio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sset Identification and Inventory</a:t>
            </a:r>
            <a:endParaRPr b="0" lang="en-US" sz="3600" spc="-1" strike="noStrike">
              <a:solidFill>
                <a:srgbClr val="222222"/>
              </a:solidFill>
              <a:latin typeface="Arial"/>
            </a:endParaRPr>
          </a:p>
        </p:txBody>
      </p:sp>
      <p:sp>
        <p:nvSpPr>
          <p:cNvPr id="32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terative process; begins with identification of assets, including all elements of an organization’s system (people, procedures, data and information, software, hardware, networking)</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ets are then classified and categorized</a:t>
            </a:r>
            <a:endParaRPr b="0" lang="en-US" sz="2600" spc="-1" strike="noStrike">
              <a:solidFill>
                <a:srgbClr val="222222"/>
              </a:solidFill>
              <a:latin typeface="Arial"/>
            </a:endParaRPr>
          </a:p>
        </p:txBody>
      </p:sp>
      <p:sp>
        <p:nvSpPr>
          <p:cNvPr id="32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2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AA75-7013-48B7-89F6-3739E404CA7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1C05-8F2E-46DD-8BA0-1F6BCB28EF3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6" name="Picture 5" descr=""/>
          <p:cNvPicPr/>
          <p:nvPr/>
        </p:nvPicPr>
        <p:blipFill>
          <a:blip r:embed="rId1"/>
          <a:stretch/>
        </p:blipFill>
        <p:spPr>
          <a:xfrm>
            <a:off x="925560" y="914400"/>
            <a:ext cx="7788240" cy="4664160"/>
          </a:xfrm>
          <a:prstGeom prst="rect">
            <a:avLst/>
          </a:prstGeom>
          <a:ln w="0">
            <a:noFill/>
          </a:ln>
        </p:spPr>
      </p:pic>
      <p:sp>
        <p:nvSpPr>
          <p:cNvPr id="327" name="Rectangle 5"/>
          <p:cNvSpPr/>
          <p:nvPr/>
        </p:nvSpPr>
        <p:spPr>
          <a:xfrm>
            <a:off x="1135080" y="5815080"/>
            <a:ext cx="70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4-1 Categorizing the Components of an Information System</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eople, Procedures, and Data Asset Identification</a:t>
            </a:r>
            <a:endParaRPr b="0" lang="en-US" sz="3600" spc="-1" strike="noStrike">
              <a:solidFill>
                <a:srgbClr val="222222"/>
              </a:solidFill>
              <a:latin typeface="Arial"/>
            </a:endParaRPr>
          </a:p>
        </p:txBody>
      </p:sp>
      <p:sp>
        <p:nvSpPr>
          <p:cNvPr id="32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Human resources, documentation, and data information assets are more difficult to identif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ortant asset attribut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eople: position name/number/ID; supervisor; security clearance level; special skil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cedures: description; intended purpose; what elements it is tied to; storage location for reference; storage location for updat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ata: classification; owner/creator/ manager; data structure size; data structure used; online/offline; location; backup procedures employed</a:t>
            </a:r>
            <a:endParaRPr b="0" lang="en-US" sz="2400" spc="-1" strike="noStrike">
              <a:solidFill>
                <a:srgbClr val="222222"/>
              </a:solidFill>
              <a:latin typeface="Arial"/>
            </a:endParaRPr>
          </a:p>
        </p:txBody>
      </p:sp>
      <p:sp>
        <p:nvSpPr>
          <p:cNvPr id="3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DB26-3D97-447F-9E13-7A263DB37E3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ardware, Software, and Network Asset Identification</a:t>
            </a:r>
            <a:endParaRPr b="0" lang="en-US" sz="3600" spc="-1" strike="noStrike">
              <a:solidFill>
                <a:srgbClr val="222222"/>
              </a:solidFill>
              <a:latin typeface="Arial"/>
            </a:endParaRPr>
          </a:p>
        </p:txBody>
      </p:sp>
      <p:sp>
        <p:nvSpPr>
          <p:cNvPr id="333" name="PlaceHolder 2"/>
          <p:cNvSpPr>
            <a:spLocks noGrp="1"/>
          </p:cNvSpPr>
          <p:nvPr>
            <p:ph/>
          </p:nvPr>
        </p:nvSpPr>
        <p:spPr>
          <a:xfrm>
            <a:off x="533520" y="1676520"/>
            <a:ext cx="8076960" cy="4572000"/>
          </a:xfrm>
          <a:prstGeom prst="rect">
            <a:avLst/>
          </a:prstGeom>
          <a:noFill/>
          <a:ln w="0">
            <a:noFill/>
          </a:ln>
        </p:spPr>
        <p:txBody>
          <a:bodyPr anchor="t">
            <a:normAutofit fontScale="97000"/>
          </a:bodyPr>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at information attributes to track depends on:</a:t>
            </a:r>
            <a:endParaRPr b="0" lang="en-US" sz="2600" spc="-1" strike="noStrike">
              <a:solidFill>
                <a:srgbClr val="222222"/>
              </a:solidFill>
              <a:latin typeface="Arial"/>
            </a:endParaRPr>
          </a:p>
          <a:p>
            <a:pPr lvl="1" marL="720720" indent="-27720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eeds of organization/risk management efforts</a:t>
            </a:r>
            <a:endParaRPr b="0" lang="en-US" sz="2400" spc="-1" strike="noStrike">
              <a:solidFill>
                <a:srgbClr val="222222"/>
              </a:solidFill>
              <a:latin typeface="Arial"/>
            </a:endParaRPr>
          </a:p>
          <a:p>
            <a:pPr lvl="1" marL="720720" indent="-27720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eferences/needs of the security and information technology communities</a:t>
            </a:r>
            <a:endParaRPr b="0" lang="en-US" sz="24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et attributes to be considered are: name; IP address; MAC address; element type; serial number; manufacturer name; model/part number; software version; physical or logical location; controlling entity</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utomated tools can identify system elements for hardware, software, and network components</a:t>
            </a:r>
            <a:endParaRPr b="0" lang="en-US" sz="2600" spc="-1" strike="noStrike">
              <a:solidFill>
                <a:srgbClr val="222222"/>
              </a:solidFill>
              <a:latin typeface="Arial"/>
            </a:endParaRPr>
          </a:p>
        </p:txBody>
      </p:sp>
      <p:sp>
        <p:nvSpPr>
          <p:cNvPr id="33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3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5F89-1A23-490B-B5C5-C4E918DB1DD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ata Classification and Management </a:t>
            </a:r>
            <a:endParaRPr b="0" lang="en-US" sz="3600" spc="-1" strike="noStrike">
              <a:solidFill>
                <a:srgbClr val="222222"/>
              </a:solidFill>
              <a:latin typeface="Arial"/>
            </a:endParaRPr>
          </a:p>
        </p:txBody>
      </p:sp>
      <p:sp>
        <p:nvSpPr>
          <p:cNvPr id="33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Variety of classification schemes used by corporate and military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owners responsible for classifying their information asse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classifications must be reviewed periodicall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ost organizations do not need detailed level of classification used by military or federal agencies; however, organizations may need to classify data to provide protection</a:t>
            </a:r>
            <a:endParaRPr b="0" lang="en-US" sz="2600" spc="-1" strike="noStrike">
              <a:solidFill>
                <a:srgbClr val="222222"/>
              </a:solidFill>
              <a:latin typeface="Arial"/>
            </a:endParaRPr>
          </a:p>
        </p:txBody>
      </p:sp>
      <p:sp>
        <p:nvSpPr>
          <p:cNvPr id="33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3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99B3-D794-4123-85C0-A6DBB75CC3A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ata Classification and Management (cont’d.)</a:t>
            </a:r>
            <a:endParaRPr b="0" lang="en-US" sz="3600" spc="-1" strike="noStrike">
              <a:solidFill>
                <a:srgbClr val="222222"/>
              </a:solidFill>
              <a:latin typeface="Arial"/>
            </a:endParaRPr>
          </a:p>
        </p:txBody>
      </p:sp>
      <p:sp>
        <p:nvSpPr>
          <p:cNvPr id="34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clearance structur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ach data user assigned a single level of authorization indicating classification leve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efore accessing specific set of data, employee must meet need-to-know requiremen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of Classified Data</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torage, distribution, portability, and destruction of classified data</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lean desk polic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mpster diving</a:t>
            </a:r>
            <a:endParaRPr b="0" lang="en-US" sz="2600" spc="-1" strike="noStrike">
              <a:solidFill>
                <a:srgbClr val="222222"/>
              </a:solidFill>
              <a:latin typeface="Arial"/>
            </a:endParaRPr>
          </a:p>
        </p:txBody>
      </p:sp>
      <p:sp>
        <p:nvSpPr>
          <p:cNvPr id="34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4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3AC2-E39E-464A-9FBB-3D26B29A24D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lassifying and Prioritizing Information Assets</a:t>
            </a:r>
            <a:endParaRPr b="0" lang="en-US" sz="3600" spc="-1" strike="noStrike">
              <a:solidFill>
                <a:srgbClr val="222222"/>
              </a:solidFill>
              <a:latin typeface="Arial"/>
            </a:endParaRPr>
          </a:p>
        </p:txBody>
      </p:sp>
      <p:sp>
        <p:nvSpPr>
          <p:cNvPr id="34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rganizations have data classification schemes (e.g., confidential, internal, public data)</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lassification of components must be specific to allow determination of priority leve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ategories must be comprehensive and mutually exclusive</a:t>
            </a:r>
            <a:endParaRPr b="0" lang="en-US" sz="2600" spc="-1" strike="noStrike">
              <a:solidFill>
                <a:srgbClr val="222222"/>
              </a:solidFill>
              <a:latin typeface="Arial"/>
            </a:endParaRPr>
          </a:p>
        </p:txBody>
      </p:sp>
      <p:sp>
        <p:nvSpPr>
          <p:cNvPr id="34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4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EA2E-C0E7-42C7-BE84-6E6E8EA15A6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Asset Valuation</a:t>
            </a:r>
            <a:endParaRPr b="0" lang="en-US" sz="3600" spc="-1" strike="noStrike">
              <a:solidFill>
                <a:srgbClr val="222222"/>
              </a:solidFill>
              <a:latin typeface="Arial"/>
            </a:endParaRPr>
          </a:p>
        </p:txBody>
      </p:sp>
      <p:sp>
        <p:nvSpPr>
          <p:cNvPr id="34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Questions help develop criteria for asset valu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ich information asse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 most critical to organization’s succes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Generates the most revenue/profitability?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ould be most expensive to replace or protect?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ould be the most embarrassing or cause greatest liability if revealed? </a:t>
            </a:r>
            <a:endParaRPr b="0" lang="en-US" sz="2400" spc="-1" strike="noStrike">
              <a:solidFill>
                <a:srgbClr val="222222"/>
              </a:solidFill>
              <a:latin typeface="Arial"/>
            </a:endParaRPr>
          </a:p>
        </p:txBody>
      </p:sp>
      <p:sp>
        <p:nvSpPr>
          <p:cNvPr id="3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AD04-8F2F-461E-8B66-734FC76897F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13A4-7002-48F4-9011-BFDDB649240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54" name="Picture 5" descr=""/>
          <p:cNvPicPr/>
          <p:nvPr/>
        </p:nvPicPr>
        <p:blipFill>
          <a:blip r:embed="rId1"/>
          <a:stretch/>
        </p:blipFill>
        <p:spPr>
          <a:xfrm>
            <a:off x="1371600" y="206280"/>
            <a:ext cx="6703920" cy="5432400"/>
          </a:xfrm>
          <a:prstGeom prst="rect">
            <a:avLst/>
          </a:prstGeom>
          <a:ln w="0">
            <a:noFill/>
          </a:ln>
        </p:spPr>
      </p:pic>
      <p:sp>
        <p:nvSpPr>
          <p:cNvPr id="355" name="Rectangle 5"/>
          <p:cNvSpPr/>
          <p:nvPr/>
        </p:nvSpPr>
        <p:spPr>
          <a:xfrm>
            <a:off x="2464560" y="5802480"/>
            <a:ext cx="42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5 Sample Inventory Workshee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fine risk management, risk identification, and risk contro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cribe how risk is identified and assesse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ssess risk based on probability of occurrence and likely impa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xplain the fundamental aspects of documenting risk via the process of risk assessment</a:t>
            </a:r>
            <a:endParaRPr b="0" lang="en-US" sz="2400" spc="-1" strike="noStrike">
              <a:solidFill>
                <a:srgbClr val="222222"/>
              </a:solidFill>
              <a:latin typeface="Arial"/>
            </a:endParaRPr>
          </a:p>
        </p:txBody>
      </p:sp>
      <p:sp>
        <p:nvSpPr>
          <p:cNvPr id="2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7647-F81C-49F9-83E7-0B18FED6A2A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Asset Valuation (cont’d.)</a:t>
            </a:r>
            <a:endParaRPr b="0" lang="en-US" sz="3600" spc="-1" strike="noStrike">
              <a:solidFill>
                <a:srgbClr val="222222"/>
              </a:solidFill>
              <a:latin typeface="Arial"/>
            </a:endParaRPr>
          </a:p>
        </p:txBody>
      </p:sp>
      <p:sp>
        <p:nvSpPr>
          <p:cNvPr id="35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asset priorit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reate weighting for each category based on the answers to ques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alculate relative importance of each asset using weighted factor analysi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ist the assets in order of importance using a weighted factor analysis worksheet</a:t>
            </a:r>
            <a:endParaRPr b="0" lang="en-US" sz="2400" spc="-1" strike="noStrike">
              <a:solidFill>
                <a:srgbClr val="222222"/>
              </a:solidFill>
              <a:latin typeface="Arial"/>
            </a:endParaRPr>
          </a:p>
        </p:txBody>
      </p:sp>
      <p:sp>
        <p:nvSpPr>
          <p:cNvPr id="35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5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0693-9D06-4971-B643-DBBA87034A7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6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75B9-A938-4B58-8C79-B2E72D0F358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62" name="Picture 5" descr=""/>
          <p:cNvPicPr/>
          <p:nvPr/>
        </p:nvPicPr>
        <p:blipFill>
          <a:blip r:embed="rId1"/>
          <a:stretch/>
        </p:blipFill>
        <p:spPr>
          <a:xfrm>
            <a:off x="228600" y="990720"/>
            <a:ext cx="8783640" cy="3657600"/>
          </a:xfrm>
          <a:prstGeom prst="rect">
            <a:avLst/>
          </a:prstGeom>
          <a:ln w="0">
            <a:noFill/>
          </a:ln>
        </p:spPr>
      </p:pic>
      <p:sp>
        <p:nvSpPr>
          <p:cNvPr id="363" name="Rectangle 5"/>
          <p:cNvSpPr/>
          <p:nvPr/>
        </p:nvSpPr>
        <p:spPr>
          <a:xfrm>
            <a:off x="1459080" y="498312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4-2 Example of a Weighted Factor Analysis Work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EDI: Electronic Data Inter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L: Secure Sockets Layer</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dentifying and Prioritizing Threats</a:t>
            </a:r>
            <a:endParaRPr b="0" lang="en-US" sz="3600" spc="-1" strike="noStrike">
              <a:solidFill>
                <a:srgbClr val="222222"/>
              </a:solidFill>
              <a:latin typeface="Arial"/>
            </a:endParaRPr>
          </a:p>
        </p:txBody>
      </p:sp>
      <p:sp>
        <p:nvSpPr>
          <p:cNvPr id="36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alistic threats need investigation; unimportant threats are set asid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assess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ich threats present danger to asset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ich threats represent the most danger to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ow much would it cost to recover from attac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ich threat requires greatest expenditure to prevent?</a:t>
            </a:r>
            <a:endParaRPr b="0" lang="en-US" sz="2400" spc="-1" strike="noStrike">
              <a:solidFill>
                <a:srgbClr val="222222"/>
              </a:solidFill>
              <a:latin typeface="Arial"/>
            </a:endParaRPr>
          </a:p>
        </p:txBody>
      </p:sp>
      <p:sp>
        <p:nvSpPr>
          <p:cNvPr id="36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6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F451-C42B-4733-9697-1EB0F764EB8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6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7CDE-49FC-4681-BE61-B2556323A25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70" name="Picture 5" descr=""/>
          <p:cNvPicPr/>
          <p:nvPr/>
        </p:nvPicPr>
        <p:blipFill>
          <a:blip r:embed="rId1"/>
          <a:stretch/>
        </p:blipFill>
        <p:spPr>
          <a:xfrm>
            <a:off x="69840" y="152280"/>
            <a:ext cx="9074160" cy="5375520"/>
          </a:xfrm>
          <a:prstGeom prst="rect">
            <a:avLst/>
          </a:prstGeom>
          <a:ln w="0">
            <a:noFill/>
          </a:ln>
        </p:spPr>
      </p:pic>
      <p:sp>
        <p:nvSpPr>
          <p:cNvPr id="371" name="Rectangle 5"/>
          <p:cNvSpPr/>
          <p:nvPr/>
        </p:nvSpPr>
        <p:spPr>
          <a:xfrm>
            <a:off x="2370240" y="5726160"/>
            <a:ext cx="44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4-3 Threats to Information Security</a:t>
            </a:r>
            <a:r>
              <a:rPr b="0" lang="en-US" sz="1800" spc="-1" strike="noStrike" baseline="30000">
                <a:solidFill>
                  <a:srgbClr val="000000"/>
                </a:solidFill>
                <a:latin typeface="Arial"/>
              </a:rPr>
              <a:t>5</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Vulnerability Identification</a:t>
            </a:r>
            <a:endParaRPr b="0" lang="en-US" sz="3600" spc="-1" strike="noStrike">
              <a:solidFill>
                <a:srgbClr val="222222"/>
              </a:solidFill>
              <a:latin typeface="Arial"/>
            </a:endParaRPr>
          </a:p>
        </p:txBody>
      </p:sp>
      <p:sp>
        <p:nvSpPr>
          <p:cNvPr id="37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pecific avenues threat agents can exploit to attack an information asset are called vulnerabilit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amine how each threat could be perpetrated and list organization’s assets and vulnerabilit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cess works best when people with diverse backgrounds within organization work iteratively in a series of brainstorming sess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end of risk identification process, list of assets and their vulnerabilities is achieved</a:t>
            </a:r>
            <a:endParaRPr b="0" lang="en-US" sz="2600" spc="-1" strike="noStrike">
              <a:solidFill>
                <a:srgbClr val="222222"/>
              </a:solidFill>
              <a:latin typeface="Arial"/>
            </a:endParaRPr>
          </a:p>
        </p:txBody>
      </p:sp>
      <p:sp>
        <p:nvSpPr>
          <p:cNvPr id="37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7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14DE-21BD-4359-ADD2-9478BE51CDD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isk Assessment</a:t>
            </a:r>
            <a:endParaRPr b="0" lang="en-US" sz="3600" spc="-1" strike="noStrike">
              <a:solidFill>
                <a:srgbClr val="222222"/>
              </a:solidFill>
              <a:latin typeface="Arial"/>
            </a:endParaRPr>
          </a:p>
        </p:txBody>
      </p:sp>
      <p:sp>
        <p:nvSpPr>
          <p:cNvPr id="37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assessment evaluates the relative risk for each vulner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igns a risk rating or score to each informatio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goal at this point: create a method for evaluating the relative risk of each listed vulnerability</a:t>
            </a:r>
            <a:endParaRPr b="0" lang="en-US" sz="2600" spc="-1" strike="noStrike">
              <a:solidFill>
                <a:srgbClr val="222222"/>
              </a:solidFill>
              <a:latin typeface="Arial"/>
            </a:endParaRPr>
          </a:p>
        </p:txBody>
      </p:sp>
      <p:sp>
        <p:nvSpPr>
          <p:cNvPr id="3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FC7F-31D7-4EE4-A945-31C289CF1A2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ikelihood</a:t>
            </a:r>
            <a:endParaRPr b="0" lang="en-US" sz="3600" spc="-1" strike="noStrike">
              <a:solidFill>
                <a:srgbClr val="222222"/>
              </a:solidFill>
              <a:latin typeface="Arial"/>
            </a:endParaRPr>
          </a:p>
        </p:txBody>
      </p:sp>
      <p:sp>
        <p:nvSpPr>
          <p:cNvPr id="38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probability that a specific vulnerability will be the object of a successful attack</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ign numeric value: number between 0.1 (low) and 1.0 (high), or a number between 1 and 100</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Zero not used since vulnerabilities with zero likelihood are removed from asset/vulnerability lis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e selected rating model consistentl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e external references for values that have been reviewed/adjusted for your circumstances</a:t>
            </a:r>
            <a:endParaRPr b="0" lang="en-US" sz="2600" spc="-1" strike="noStrike">
              <a:solidFill>
                <a:srgbClr val="222222"/>
              </a:solidFill>
              <a:latin typeface="Arial"/>
            </a:endParaRPr>
          </a:p>
        </p:txBody>
      </p:sp>
      <p:sp>
        <p:nvSpPr>
          <p:cNvPr id="3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1D3A-AA08-473A-8A0E-567A9CFE309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isk Determination</a:t>
            </a:r>
            <a:endParaRPr b="0" lang="en-US" sz="3600" spc="-1" strike="noStrike">
              <a:solidFill>
                <a:srgbClr val="222222"/>
              </a:solidFill>
              <a:latin typeface="Arial"/>
            </a:endParaRPr>
          </a:p>
        </p:txBody>
      </p:sp>
      <p:sp>
        <p:nvSpPr>
          <p:cNvPr id="38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or the purpose of relative risk assess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isk EQU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ikelihood of vulnerability occurrence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IMES value (or impact)</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INUS percentage risk already controlle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LUS an element of uncertainty</a:t>
            </a:r>
            <a:endParaRPr b="0" lang="en-US" sz="2400" spc="-1" strike="noStrike">
              <a:solidFill>
                <a:srgbClr val="222222"/>
              </a:solidFill>
              <a:latin typeface="Arial"/>
            </a:endParaRPr>
          </a:p>
        </p:txBody>
      </p:sp>
      <p:sp>
        <p:nvSpPr>
          <p:cNvPr id="3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8B23-57FA-423F-A748-D3875BF5726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dentify Possible Controls</a:t>
            </a:r>
            <a:endParaRPr b="0" lang="en-US" sz="3600" spc="-1" strike="noStrike">
              <a:solidFill>
                <a:srgbClr val="222222"/>
              </a:solidFill>
              <a:latin typeface="Arial"/>
            </a:endParaRPr>
          </a:p>
        </p:txBody>
      </p:sp>
      <p:sp>
        <p:nvSpPr>
          <p:cNvPr id="38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or each threat and associated vulnerabilities that have residual risk, create preliminary list of control idea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idual risk is risk that remains to information asset even after existing control has been appl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re are three general categories of control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olic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gra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echnologies</a:t>
            </a:r>
            <a:endParaRPr b="0" lang="en-US" sz="2400" spc="-1" strike="noStrike">
              <a:solidFill>
                <a:srgbClr val="222222"/>
              </a:solidFill>
              <a:latin typeface="Arial"/>
            </a:endParaRPr>
          </a:p>
        </p:txBody>
      </p:sp>
      <p:sp>
        <p:nvSpPr>
          <p:cNvPr id="3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6E32-05C5-4FBA-9A4C-51BFABBF2E6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ocumenting the Results of Risk Assessment</a:t>
            </a:r>
            <a:endParaRPr b="0" lang="en-US" sz="3600" spc="-1" strike="noStrike">
              <a:solidFill>
                <a:srgbClr val="222222"/>
              </a:solidFill>
              <a:latin typeface="Arial"/>
            </a:endParaRPr>
          </a:p>
        </p:txBody>
      </p:sp>
      <p:sp>
        <p:nvSpPr>
          <p:cNvPr id="39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nal summary comprised in ranked vulnerability risk workshe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orksheet details asset, asset impact, vulnerability, vulnerability likelihood, and risk-rating fact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anked vulnerability risk worksheet is initial working document for next step in risk management process: assessing and controlling risk</a:t>
            </a:r>
            <a:endParaRPr b="0" lang="en-US" sz="2600" spc="-1" strike="noStrike">
              <a:solidFill>
                <a:srgbClr val="222222"/>
              </a:solidFill>
              <a:latin typeface="Arial"/>
            </a:endParaRPr>
          </a:p>
        </p:txBody>
      </p:sp>
      <p:sp>
        <p:nvSpPr>
          <p:cNvPr id="3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AD28-0589-4A72-990B-1B0598B7380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289" name="PlaceHolder 2"/>
          <p:cNvSpPr>
            <a:spLocks noGrp="1"/>
          </p:cNvSpPr>
          <p:nvPr>
            <p:ph/>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cribe the various risk mitigation strategy op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dentify the categories that can be used to classify contro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cognize the conceptual frameworks for evaluating risk controls and formulate a cost benefit analysi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cribe how to maintain and perpetuate risk controls</a:t>
            </a:r>
            <a:endParaRPr b="0" lang="en-US" sz="2400" spc="-1" strike="noStrike">
              <a:solidFill>
                <a:srgbClr val="222222"/>
              </a:solidFill>
              <a:latin typeface="Arial"/>
            </a:endParaRPr>
          </a:p>
        </p:txBody>
      </p:sp>
      <p:sp>
        <p:nvSpPr>
          <p:cNvPr id="2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829A-4C5E-4798-881A-CE42D524608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9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8AA1-5A6C-4EF7-A10B-CAD44A8B368D}"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98" name="Picture 2" descr=""/>
          <p:cNvPicPr/>
          <p:nvPr/>
        </p:nvPicPr>
        <p:blipFill>
          <a:blip r:embed="rId1"/>
          <a:stretch/>
        </p:blipFill>
        <p:spPr>
          <a:xfrm>
            <a:off x="1440" y="228600"/>
            <a:ext cx="9066240" cy="5257800"/>
          </a:xfrm>
          <a:prstGeom prst="rect">
            <a:avLst/>
          </a:prstGeom>
          <a:ln w="0">
            <a:noFill/>
          </a:ln>
        </p:spPr>
      </p:pic>
      <p:sp>
        <p:nvSpPr>
          <p:cNvPr id="399" name="Rectangle 6"/>
          <p:cNvSpPr/>
          <p:nvPr/>
        </p:nvSpPr>
        <p:spPr>
          <a:xfrm>
            <a:off x="2057400" y="564984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4-9 Ranked Vulnerability Risk Worksh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0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BA50-820B-4DA2-B86F-EC0853B6F5C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02" name="Rectangle 5"/>
          <p:cNvSpPr/>
          <p:nvPr/>
        </p:nvSpPr>
        <p:spPr>
          <a:xfrm>
            <a:off x="1295280" y="58024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4-10 Risk Identification and Assessment Deliverables</a:t>
            </a:r>
            <a:endParaRPr b="0" lang="en-US" sz="1800" spc="-1" strike="noStrike">
              <a:solidFill>
                <a:srgbClr val="000000"/>
              </a:solidFill>
              <a:latin typeface="Arial"/>
            </a:endParaRPr>
          </a:p>
        </p:txBody>
      </p:sp>
      <p:graphicFrame>
        <p:nvGraphicFramePr>
          <p:cNvPr id="403" name=""/>
          <p:cNvGraphicFramePr/>
          <p:nvPr/>
        </p:nvGraphicFramePr>
        <p:xfrm>
          <a:off x="152280" y="304920"/>
          <a:ext cx="8839440" cy="5333760"/>
        </p:xfrm>
        <a:graphic>
          <a:graphicData uri="http://schemas.openxmlformats.org/drawingml/2006/table">
            <a:tbl>
              <a:tblPr/>
              <a:tblGrid>
                <a:gridCol w="4419720"/>
                <a:gridCol w="4419720"/>
              </a:tblGrid>
              <a:tr h="635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iver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5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sset classification work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es information about information assets and their imp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56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criteria analysis work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s ranked value or impact weight to each information ass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5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ed vulnerability risk work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s ranked value of risk rating for each uncontrolled asset-vulnerability pa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isk Control Strategies</a:t>
            </a:r>
            <a:endParaRPr b="0" lang="en-US" sz="3600" spc="-1" strike="noStrike">
              <a:solidFill>
                <a:srgbClr val="222222"/>
              </a:solidFill>
              <a:latin typeface="Arial"/>
            </a:endParaRPr>
          </a:p>
        </p:txBody>
      </p:sp>
      <p:sp>
        <p:nvSpPr>
          <p:cNvPr id="40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nce ranked vulnerability risk worksheet complete, must choose one of five strategies to control each risk: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end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ransf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itigat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cep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erminate</a:t>
            </a:r>
            <a:endParaRPr b="0" lang="en-US" sz="2400" spc="-1" strike="noStrike">
              <a:solidFill>
                <a:srgbClr val="222222"/>
              </a:solidFill>
              <a:latin typeface="Arial"/>
            </a:endParaRPr>
          </a:p>
        </p:txBody>
      </p:sp>
      <p:sp>
        <p:nvSpPr>
          <p:cNvPr id="4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70E5-9C50-4586-BF0A-D3953E61609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fend</a:t>
            </a:r>
            <a:endParaRPr b="0" lang="en-US" sz="3600" spc="-1" strike="noStrike">
              <a:solidFill>
                <a:srgbClr val="222222"/>
              </a:solidFill>
              <a:latin typeface="Arial"/>
            </a:endParaRPr>
          </a:p>
        </p:txBody>
      </p:sp>
      <p:sp>
        <p:nvSpPr>
          <p:cNvPr id="40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empts to prevent exploitation of the vulner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eferred approach</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ccomplished through countering threats, removing asset vulnerabilities, limiting asset access, and adding protective safeguard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e common methods of risk avoidanc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ication of polic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aining and edu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ying technology</a:t>
            </a:r>
            <a:endParaRPr b="0" lang="en-US" sz="2400" spc="-1" strike="noStrike">
              <a:solidFill>
                <a:srgbClr val="222222"/>
              </a:solidFill>
              <a:latin typeface="Arial"/>
            </a:endParaRPr>
          </a:p>
        </p:txBody>
      </p:sp>
      <p:sp>
        <p:nvSpPr>
          <p:cNvPr id="4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016F-44C7-4985-8832-50506838EAD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ransfer</a:t>
            </a:r>
            <a:endParaRPr b="0" lang="en-US" sz="3600" spc="-1" strike="noStrike">
              <a:solidFill>
                <a:srgbClr val="222222"/>
              </a:solidFill>
              <a:latin typeface="Arial"/>
            </a:endParaRPr>
          </a:p>
        </p:txBody>
      </p:sp>
      <p:sp>
        <p:nvSpPr>
          <p:cNvPr id="41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trol approach that attempts to shift risk to other assets, processes, or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f lacking, organization should hire individuals/firms that provide security management and administration experti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may then transfer risk associated with management of complex systems to another organization experienced in dealing with those risks</a:t>
            </a:r>
            <a:endParaRPr b="0" lang="en-US" sz="2600" spc="-1" strike="noStrike">
              <a:solidFill>
                <a:srgbClr val="222222"/>
              </a:solidFill>
              <a:latin typeface="Arial"/>
            </a:endParaRPr>
          </a:p>
        </p:txBody>
      </p:sp>
      <p:sp>
        <p:nvSpPr>
          <p:cNvPr id="4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66A0-BA73-469D-836D-02115BAD934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itigate</a:t>
            </a:r>
            <a:endParaRPr b="0" lang="en-US" sz="3600" spc="-1" strike="noStrike">
              <a:solidFill>
                <a:srgbClr val="222222"/>
              </a:solidFill>
              <a:latin typeface="Arial"/>
            </a:endParaRPr>
          </a:p>
        </p:txBody>
      </p:sp>
      <p:sp>
        <p:nvSpPr>
          <p:cNvPr id="41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empts to reduce impact of vulnerability exploitation through planning and prepar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pproach includes three types of plan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ident response plan (IRP): define the actions to take while incident is in progres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aster recovery plan (DRP):</a:t>
            </a:r>
            <a:r>
              <a:rPr b="0" lang="en-US" sz="2400" spc="-1" strike="noStrike">
                <a:solidFill>
                  <a:srgbClr val="222222"/>
                </a:solidFill>
                <a:latin typeface="Arial"/>
              </a:rPr>
              <a:t> </a:t>
            </a:r>
            <a:r>
              <a:rPr b="0" lang="en-GB" sz="2400" spc="-1" strike="noStrike">
                <a:solidFill>
                  <a:srgbClr val="222222"/>
                </a:solidFill>
                <a:latin typeface="Arial"/>
              </a:rPr>
              <a:t>most common mitigation procedu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usiness continuity plan (BCP):</a:t>
            </a:r>
            <a:r>
              <a:rPr b="0" lang="en-US" sz="2400" spc="-1" strike="noStrike">
                <a:solidFill>
                  <a:srgbClr val="222222"/>
                </a:solidFill>
                <a:latin typeface="Arial"/>
              </a:rPr>
              <a:t> </a:t>
            </a:r>
            <a:r>
              <a:rPr b="0" lang="en-GB" sz="2400" spc="-1" strike="noStrike">
                <a:solidFill>
                  <a:srgbClr val="222222"/>
                </a:solidFill>
                <a:latin typeface="Arial"/>
              </a:rPr>
              <a:t>encompasses continuation of business activities if catastrophic event occurs</a:t>
            </a:r>
            <a:endParaRPr b="0" lang="en-US" sz="2400" spc="-1" strike="noStrike">
              <a:solidFill>
                <a:srgbClr val="222222"/>
              </a:solidFill>
              <a:latin typeface="Arial"/>
            </a:endParaRPr>
          </a:p>
        </p:txBody>
      </p:sp>
      <p:sp>
        <p:nvSpPr>
          <p:cNvPr id="4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458E-5C6A-483E-92A5-1AAE570C80E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ccept</a:t>
            </a:r>
            <a:endParaRPr b="0" lang="en-US" sz="3600" spc="-1" strike="noStrike">
              <a:solidFill>
                <a:srgbClr val="222222"/>
              </a:solidFill>
              <a:latin typeface="Arial"/>
            </a:endParaRPr>
          </a:p>
        </p:txBody>
      </p:sp>
      <p:sp>
        <p:nvSpPr>
          <p:cNvPr id="42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oing nothing to protect a vulnerability and accepting the outcome of its exploit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Valid only when the particular function, service, information, or asset does not justify cost of protection</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2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2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2E88-7798-45CF-AC57-DF6527DC65E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erminate</a:t>
            </a:r>
            <a:endParaRPr b="0" lang="en-US" sz="3600" spc="-1" strike="noStrike">
              <a:solidFill>
                <a:srgbClr val="222222"/>
              </a:solidFill>
              <a:latin typeface="Arial"/>
            </a:endParaRPr>
          </a:p>
        </p:txBody>
      </p:sp>
      <p:sp>
        <p:nvSpPr>
          <p:cNvPr id="42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rects the organization to avoid those business activities that introduce uncontrollable risk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y seek an alternate mechanism to meet customer needs</a:t>
            </a:r>
            <a:endParaRPr b="0" lang="en-US" sz="2600" spc="-1" strike="noStrike">
              <a:solidFill>
                <a:srgbClr val="222222"/>
              </a:solidFill>
              <a:latin typeface="Arial"/>
            </a:endParaRPr>
          </a:p>
        </p:txBody>
      </p:sp>
      <p:sp>
        <p:nvSpPr>
          <p:cNvPr id="4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35E5-4793-47A0-A568-0B8CBBC00339}"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lecting a Risk Control Strategy</a:t>
            </a:r>
            <a:endParaRPr b="0" lang="en-US" sz="3600" spc="-1" strike="noStrike">
              <a:solidFill>
                <a:srgbClr val="222222"/>
              </a:solidFill>
              <a:latin typeface="Arial"/>
            </a:endParaRPr>
          </a:p>
        </p:txBody>
      </p:sp>
      <p:sp>
        <p:nvSpPr>
          <p:cNvPr id="42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evel of threat and value of asset play major role in selection of strateg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ules of thumb on strategy selection can be appli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a vulnerability exis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a vulnerability can be exploite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attacker’s cost is less than potential gai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potential loss is substantial</a:t>
            </a:r>
            <a:endParaRPr b="0" lang="en-US" sz="2400" spc="-1" strike="noStrike">
              <a:solidFill>
                <a:srgbClr val="222222"/>
              </a:solidFill>
              <a:latin typeface="Arial"/>
            </a:endParaRPr>
          </a:p>
        </p:txBody>
      </p:sp>
      <p:sp>
        <p:nvSpPr>
          <p:cNvPr id="4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36C9-9715-4F01-B356-54A99367B36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3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9370-416B-42CF-B7BD-E92E27B3D99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34" name="Picture 5" descr=""/>
          <p:cNvPicPr/>
          <p:nvPr/>
        </p:nvPicPr>
        <p:blipFill>
          <a:blip r:embed="rId1"/>
          <a:stretch/>
        </p:blipFill>
        <p:spPr>
          <a:xfrm>
            <a:off x="914400" y="152280"/>
            <a:ext cx="7620120" cy="5661000"/>
          </a:xfrm>
          <a:prstGeom prst="rect">
            <a:avLst/>
          </a:prstGeom>
          <a:ln w="0">
            <a:noFill/>
          </a:ln>
        </p:spPr>
      </p:pic>
      <p:sp>
        <p:nvSpPr>
          <p:cNvPr id="435" name="Rectangle 5"/>
          <p:cNvSpPr/>
          <p:nvPr/>
        </p:nvSpPr>
        <p:spPr>
          <a:xfrm>
            <a:off x="2409840" y="5878440"/>
            <a:ext cx="432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8 Risk Handling Decision Point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9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rganizations must design and create safe environments in which business processes and procedures can func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management: process of identifying and controlling risks facing an organiz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identification: process of examining an organization’s current information technology security situ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control: applying controls to reduce risks to an organization’s data and information systems</a:t>
            </a:r>
            <a:endParaRPr b="0" lang="en-US" sz="2600" spc="-1" strike="noStrike">
              <a:solidFill>
                <a:srgbClr val="222222"/>
              </a:solidFill>
              <a:latin typeface="Arial"/>
            </a:endParaRPr>
          </a:p>
        </p:txBody>
      </p:sp>
      <p:sp>
        <p:nvSpPr>
          <p:cNvPr id="2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652E-D1DA-4DA4-9B18-7443EDA7F4F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easibility Studies</a:t>
            </a:r>
            <a:endParaRPr b="0" lang="en-US" sz="3600" spc="-1" strike="noStrike">
              <a:solidFill>
                <a:srgbClr val="222222"/>
              </a:solidFill>
              <a:latin typeface="Arial"/>
            </a:endParaRPr>
          </a:p>
        </p:txBody>
      </p:sp>
      <p:sp>
        <p:nvSpPr>
          <p:cNvPr id="43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fore deciding on strategy, all information about economic/noneconomic consequences of vulnerability of information asset must be explor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 number of ways exist to determine advantage of a specific control</a:t>
            </a:r>
            <a:endParaRPr b="0" lang="en-US" sz="2600" spc="-1" strike="noStrike">
              <a:solidFill>
                <a:srgbClr val="222222"/>
              </a:solidFill>
              <a:latin typeface="Arial"/>
            </a:endParaRPr>
          </a:p>
        </p:txBody>
      </p:sp>
      <p:sp>
        <p:nvSpPr>
          <p:cNvPr id="43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3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C88A-37F4-4253-AB88-D71379B8E08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st Benefit Analysis (CBA)</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41"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gun by evaluating worth of assets to be protected and the loss in value if they are compromised</a:t>
            </a:r>
            <a:endParaRPr b="0" lang="en-US" sz="2600" spc="-1" strike="noStrike">
              <a:solidFill>
                <a:srgbClr val="222222"/>
              </a:solidFill>
              <a:latin typeface="Arial"/>
            </a:endParaRPr>
          </a:p>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formal process to document this is called cost benefit analysis or economic feasibility study</a:t>
            </a:r>
            <a:endParaRPr b="0" lang="en-US" sz="2600" spc="-1" strike="noStrike">
              <a:solidFill>
                <a:srgbClr val="222222"/>
              </a:solidFill>
              <a:latin typeface="Arial"/>
            </a:endParaRPr>
          </a:p>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tems that affect cost of a control or safeguard include: cost of development or acquisition; training fees; implementation cost; service costs; cost of maintenance</a:t>
            </a:r>
            <a:endParaRPr b="0" lang="en-US" sz="2600" spc="-1" strike="noStrike">
              <a:solidFill>
                <a:srgbClr val="222222"/>
              </a:solidFill>
              <a:latin typeface="Arial"/>
            </a:endParaRPr>
          </a:p>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nefit: value an organization realizes using controls to prevent losses from a vulnerability</a:t>
            </a:r>
            <a:endParaRPr b="0" lang="en-US" sz="2600" spc="-1" strike="noStrike">
              <a:solidFill>
                <a:srgbClr val="222222"/>
              </a:solidFill>
              <a:latin typeface="Arial"/>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4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4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DC6C-3E53-42E3-9BD4-886B56DBE05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st Benefit Analysis (CBA)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4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et valuation: process of assigning financial value or worth to each informatio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cess result is estimate of potential loss per risk</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pected loss per risk stated in the following equ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nnualized loss expectancy (ALE) = </a:t>
            </a:r>
            <a:br>
              <a:rPr sz="2400"/>
            </a:br>
            <a:r>
              <a:rPr b="0" lang="en-GB" sz="2400" spc="-1" strike="noStrike">
                <a:solidFill>
                  <a:srgbClr val="222222"/>
                </a:solidFill>
                <a:latin typeface="Arial"/>
              </a:rPr>
              <a:t>single loss expectancy (SLE) × </a:t>
            </a:r>
            <a:br>
              <a:rPr sz="2400"/>
            </a:br>
            <a:r>
              <a:rPr b="0" lang="en-GB" sz="2400" spc="-1" strike="noStrike">
                <a:solidFill>
                  <a:srgbClr val="222222"/>
                </a:solidFill>
                <a:latin typeface="Arial"/>
              </a:rPr>
              <a:t>annualized rate of occurrence (ARO)</a:t>
            </a:r>
            <a:r>
              <a:rPr b="0" lang="ar-SA" sz="2400" spc="-1" strike="noStrike">
                <a:solidFill>
                  <a:srgbClr val="222222"/>
                </a:solidFill>
                <a:latin typeface="Arial"/>
              </a:rPr>
              <a: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LE = asset value × exposure factor (EF)</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4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4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9ADC-84A1-4682-B41F-75CCD413CEB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Cost Benefit Analysis (CBA) Formula</a:t>
            </a:r>
            <a:endParaRPr b="0" lang="en-US" sz="3600" spc="-1" strike="noStrike">
              <a:solidFill>
                <a:srgbClr val="222222"/>
              </a:solidFill>
              <a:latin typeface="Arial"/>
            </a:endParaRPr>
          </a:p>
        </p:txBody>
      </p:sp>
      <p:sp>
        <p:nvSpPr>
          <p:cNvPr id="44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BA determines if alternative being evaluated is worth cost incurred to control vulnerabilit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BA most easily calculated using ALE from earlier assessments, before implementation of proposed control:</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CBA = ALE(prior) – ALE(post) – ACS</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LE(prior) is annualized loss expectancy of risk before implementation of contro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LE(post) is estimated ALE based on control being in place for a period of tim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S is the annualized cost of the safeguard</a:t>
            </a:r>
            <a:endParaRPr b="0" lang="en-US" sz="2400" spc="-1" strike="noStrike">
              <a:solidFill>
                <a:srgbClr val="222222"/>
              </a:solidFill>
              <a:latin typeface="Arial"/>
            </a:endParaRPr>
          </a:p>
        </p:txBody>
      </p:sp>
      <p:sp>
        <p:nvSpPr>
          <p:cNvPr id="4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9FD4-6A2F-42DE-B226-85FFDCFD290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valuation, Assessment, and Maintenance of Risk Controls</a:t>
            </a:r>
            <a:endParaRPr b="0" lang="en-US" sz="3600" spc="-1" strike="noStrike">
              <a:solidFill>
                <a:srgbClr val="222222"/>
              </a:solidFill>
              <a:latin typeface="Arial"/>
            </a:endParaRPr>
          </a:p>
        </p:txBody>
      </p:sp>
      <p:sp>
        <p:nvSpPr>
          <p:cNvPr id="45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lection and implementation of control strategy is not end of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trategy and accompanying controls must be monitored/</a:t>
            </a:r>
            <a:r>
              <a:rPr b="0" lang="en-US" sz="2600" spc="-1" strike="noStrike">
                <a:solidFill>
                  <a:srgbClr val="222222"/>
                </a:solidFill>
                <a:latin typeface="Arial"/>
              </a:rPr>
              <a:t>reevaluated</a:t>
            </a:r>
            <a:r>
              <a:rPr b="0" lang="en-GB" sz="2600" spc="-1" strike="noStrike">
                <a:solidFill>
                  <a:srgbClr val="222222"/>
                </a:solidFill>
                <a:latin typeface="Arial"/>
              </a:rPr>
              <a:t> on ongoing basis to determine effectiveness and to calculate more accurately the estimated residual risk</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cess continues as long as organization continues to function</a:t>
            </a:r>
            <a:endParaRPr b="0" lang="en-US" sz="2600" spc="-1" strike="noStrike">
              <a:solidFill>
                <a:srgbClr val="222222"/>
              </a:solidFill>
              <a:latin typeface="Arial"/>
            </a:endParaRPr>
          </a:p>
        </p:txBody>
      </p:sp>
      <p:sp>
        <p:nvSpPr>
          <p:cNvPr id="45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5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A2BC-F990-4A48-AD25-1CDE44C5CE0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5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083A-4B0A-480E-9C1F-D905D126633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58" name="Picture 5" descr=""/>
          <p:cNvPicPr/>
          <p:nvPr/>
        </p:nvPicPr>
        <p:blipFill>
          <a:blip r:embed="rId1"/>
          <a:stretch/>
        </p:blipFill>
        <p:spPr>
          <a:xfrm>
            <a:off x="830160" y="304920"/>
            <a:ext cx="7551720" cy="4892400"/>
          </a:xfrm>
          <a:prstGeom prst="rect">
            <a:avLst/>
          </a:prstGeom>
          <a:ln w="0">
            <a:noFill/>
          </a:ln>
        </p:spPr>
      </p:pic>
      <p:sp>
        <p:nvSpPr>
          <p:cNvPr id="459" name="Rectangle 5"/>
          <p:cNvSpPr/>
          <p:nvPr/>
        </p:nvSpPr>
        <p:spPr>
          <a:xfrm>
            <a:off x="2991960" y="5497560"/>
            <a:ext cx="31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9 Risk Control Cycle</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Quantitative versus Qualitative Risk Control Practices</a:t>
            </a:r>
            <a:endParaRPr b="0" lang="en-US" sz="3600" spc="-1" strike="noStrike">
              <a:solidFill>
                <a:srgbClr val="222222"/>
              </a:solidFill>
              <a:latin typeface="Arial"/>
            </a:endParaRPr>
          </a:p>
        </p:txBody>
      </p:sp>
      <p:sp>
        <p:nvSpPr>
          <p:cNvPr id="46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rforming the previous steps using actual values or estimates is known as quantitative assess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ssible to complete steps using evaluation process based on characteristics using </a:t>
            </a:r>
            <a:r>
              <a:rPr b="0" lang="en-US" sz="2600" spc="-1" strike="noStrike">
                <a:solidFill>
                  <a:srgbClr val="222222"/>
                </a:solidFill>
                <a:latin typeface="Arial"/>
              </a:rPr>
              <a:t>nonnumerical</a:t>
            </a:r>
            <a:r>
              <a:rPr b="0" lang="en-GB" sz="2600" spc="-1" strike="noStrike">
                <a:solidFill>
                  <a:srgbClr val="222222"/>
                </a:solidFill>
                <a:latin typeface="Arial"/>
              </a:rPr>
              <a:t> measures; called qualitative assess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tilizing scales rather than specific estimates relieves organization from difficulty of determining exact values</a:t>
            </a:r>
            <a:endParaRPr b="0" lang="en-US" sz="2600" spc="-1" strike="noStrike">
              <a:solidFill>
                <a:srgbClr val="222222"/>
              </a:solidFill>
              <a:latin typeface="Arial"/>
            </a:endParaRPr>
          </a:p>
        </p:txBody>
      </p:sp>
      <p:sp>
        <p:nvSpPr>
          <p:cNvPr id="46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6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FDC4-3514-495C-9DB7-3FD89401FE9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enchmarking and Best Practices</a:t>
            </a:r>
            <a:endParaRPr b="0" lang="en-US" sz="3600" spc="-1" strike="noStrike">
              <a:solidFill>
                <a:srgbClr val="222222"/>
              </a:solidFill>
              <a:latin typeface="Arial"/>
            </a:endParaRPr>
          </a:p>
        </p:txBody>
      </p:sp>
      <p:sp>
        <p:nvSpPr>
          <p:cNvPr id="46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 alternative approach to risk manage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nchmarking: process of seeking out and studying practices in other organizations that one’s own organization desires to duplica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ne of two measures typically used to compare practic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etrics-based measur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cess-based measures</a:t>
            </a:r>
            <a:endParaRPr b="0" lang="en-US" sz="2400" spc="-1" strike="noStrike">
              <a:solidFill>
                <a:srgbClr val="222222"/>
              </a:solidFill>
              <a:latin typeface="Arial"/>
            </a:endParaRPr>
          </a:p>
        </p:txBody>
      </p:sp>
      <p:sp>
        <p:nvSpPr>
          <p:cNvPr id="46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6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9BAB-3774-4ACE-B964-BFCD34B1779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enchmarking and Best Practice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6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tandard of due care: when adopting levels of security for a legal </a:t>
            </a:r>
            <a:r>
              <a:rPr b="0" lang="en-US" sz="2600" spc="-1" strike="noStrike">
                <a:solidFill>
                  <a:srgbClr val="222222"/>
                </a:solidFill>
                <a:latin typeface="Arial"/>
              </a:rPr>
              <a:t>defense</a:t>
            </a:r>
            <a:r>
              <a:rPr b="0" lang="en-GB" sz="2600" spc="-1" strike="noStrike">
                <a:solidFill>
                  <a:srgbClr val="222222"/>
                </a:solidFill>
                <a:latin typeface="Arial"/>
              </a:rPr>
              <a:t>, organization shows it has done what any prudent organization would do in similar circumstanc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diligence: demonstration that organization is diligent in ensuring that implemented standards continue to provide required level of protec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ailure to support standard of due care or due diligence can leave organization open to legal liability </a:t>
            </a:r>
            <a:endParaRPr b="0" lang="en-US" sz="2600" spc="-1" strike="noStrike">
              <a:solidFill>
                <a:srgbClr val="222222"/>
              </a:solidFill>
              <a:latin typeface="Arial"/>
            </a:endParaRPr>
          </a:p>
        </p:txBody>
      </p:sp>
      <p:sp>
        <p:nvSpPr>
          <p:cNvPr id="47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DF3F-AB97-4506-8F63-97BDA577B19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enchmarking and Best Practice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7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st business practices: security efforts that provide a superior level of information protec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en considering best practices for adoption in an organization, consid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oes organization resemble identified target with best practi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re resources at hand similar?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 organization in a similar threat environment?</a:t>
            </a:r>
            <a:endParaRPr b="0" lang="en-US" sz="2400" spc="-1" strike="noStrike">
              <a:solidFill>
                <a:srgbClr val="222222"/>
              </a:solidFill>
              <a:latin typeface="Arial"/>
            </a:endParaRPr>
          </a:p>
        </p:txBody>
      </p:sp>
      <p:sp>
        <p:nvSpPr>
          <p:cNvPr id="47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7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5710-7717-4137-ADD8-7A67401DC7A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n Overview of Risk Management</a:t>
            </a:r>
            <a:endParaRPr b="0" lang="en-US" sz="3600" spc="-1" strike="noStrike">
              <a:solidFill>
                <a:srgbClr val="222222"/>
              </a:solidFill>
              <a:latin typeface="Arial"/>
            </a:endParaRPr>
          </a:p>
        </p:txBody>
      </p:sp>
      <p:sp>
        <p:nvSpPr>
          <p:cNvPr id="29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Know yourself: identify, examine, and understand the information and systems currently in 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Know the enemy: identify, examine, and understand threats facing the organiz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ponsibility of each community of interest within an organization to manage risks that are encountered</a:t>
            </a:r>
            <a:endParaRPr b="0" lang="en-US" sz="2600" spc="-1" strike="noStrike">
              <a:solidFill>
                <a:srgbClr val="222222"/>
              </a:solidFill>
              <a:latin typeface="Arial"/>
            </a:endParaRPr>
          </a:p>
        </p:txBody>
      </p:sp>
      <p:sp>
        <p:nvSpPr>
          <p:cNvPr id="2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838B-FFAA-4AAF-B962-630ABBD017C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enchmarking and Best Practice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7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s with the application of benchmarking and best practic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s don’t talk to each other (biggest problem)</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 two organizations are identica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est practices are a moving targe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Knowing what was going on in information security industry in recent years through benchmarking doesn’t necessarily prepare for what’s next</a:t>
            </a:r>
            <a:endParaRPr b="0" lang="en-US" sz="2400" spc="-1" strike="noStrike">
              <a:solidFill>
                <a:srgbClr val="222222"/>
              </a:solidFill>
              <a:latin typeface="Arial"/>
            </a:endParaRPr>
          </a:p>
        </p:txBody>
      </p:sp>
      <p:sp>
        <p:nvSpPr>
          <p:cNvPr id="4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17C7-05DC-48D2-AB8B-846DC004BB8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enchmarking and Best Practice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8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aselining</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nalysis of measures against established standa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 information security, baselining is comparison of security activities and events against an organization’s future performan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ful during baselining to have a guide to the overall process </a:t>
            </a:r>
            <a:endParaRPr b="0" lang="en-US" sz="2400" spc="-1" strike="noStrike">
              <a:solidFill>
                <a:srgbClr val="222222"/>
              </a:solidFill>
              <a:latin typeface="Arial"/>
            </a:endParaRPr>
          </a:p>
        </p:txBody>
      </p:sp>
      <p:sp>
        <p:nvSpPr>
          <p:cNvPr id="4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0EAF-B4B0-4374-9103-F46464383AF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Other Feasibility Studies</a:t>
            </a:r>
            <a:endParaRPr b="0" lang="en-US" sz="3600" spc="-1" strike="noStrike">
              <a:solidFill>
                <a:srgbClr val="222222"/>
              </a:solidFill>
              <a:latin typeface="Arial"/>
            </a:endParaRPr>
          </a:p>
        </p:txBody>
      </p:sp>
      <p:sp>
        <p:nvSpPr>
          <p:cNvPr id="485" name="PlaceHolder 2"/>
          <p:cNvSpPr>
            <a:spLocks noGrp="1"/>
          </p:cNvSpPr>
          <p:nvPr>
            <p:ph/>
          </p:nvPr>
        </p:nvSpPr>
        <p:spPr>
          <a:xfrm>
            <a:off x="533520" y="1676520"/>
            <a:ext cx="8076960" cy="4572000"/>
          </a:xfrm>
          <a:prstGeom prst="rect">
            <a:avLst/>
          </a:prstGeom>
          <a:noFill/>
          <a:ln w="0">
            <a:noFill/>
          </a:ln>
        </p:spPr>
        <p:txBody>
          <a:bodyPr anchor="t">
            <a:normAutofit fontScale="97000"/>
          </a:bodyPr>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al: examines how well proposed IS alternatives will contribute to organization’s efficiency, effectiveness, and overall operation</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perational: examines user and management acceptance and support, and the overall requirements of the organization’s stakeholders</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echnical: examines if organization has or can acquire the technology necessary to implement and support the control alternatives</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litical: defines what can/cannot occur based on consensus and relationships</a:t>
            </a:r>
            <a:endParaRPr b="0" lang="en-US" sz="2600" spc="-1" strike="noStrike">
              <a:solidFill>
                <a:srgbClr val="222222"/>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88DF-8DE4-49E7-9591-C382D4A087C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isk Management Discussion Points</a:t>
            </a:r>
            <a:endParaRPr b="0" lang="en-US" sz="3600" spc="-1" strike="noStrike">
              <a:solidFill>
                <a:srgbClr val="222222"/>
              </a:solidFill>
              <a:latin typeface="Arial"/>
            </a:endParaRPr>
          </a:p>
        </p:txBody>
      </p:sp>
      <p:sp>
        <p:nvSpPr>
          <p:cNvPr id="48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must define level of risk it can live with</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appetite: defines quantity and nature of risk that organizations are willing to accept as trade-offs between perfect security and unlimited accessi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idual risk: risk that has not been completely removed, shifted, or planned for</a:t>
            </a:r>
            <a:endParaRPr b="0" lang="en-US" sz="2600" spc="-1" strike="noStrike">
              <a:solidFill>
                <a:srgbClr val="222222"/>
              </a:solidFill>
              <a:latin typeface="Arial"/>
            </a:endParaRPr>
          </a:p>
        </p:txBody>
      </p:sp>
      <p:sp>
        <p:nvSpPr>
          <p:cNvPr id="4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1AE0-F58E-46F2-8A34-2B37F022FE7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9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CEBA-C326-4538-80D8-DEA1E35D648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94" name="Rectangle 7"/>
          <p:cNvSpPr/>
          <p:nvPr/>
        </p:nvSpPr>
        <p:spPr>
          <a:xfrm>
            <a:off x="3214440" y="587844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10 Residual risk</a:t>
            </a:r>
            <a:endParaRPr b="0" lang="en-US" sz="1800" spc="-1" strike="noStrike">
              <a:solidFill>
                <a:srgbClr val="000000"/>
              </a:solidFill>
              <a:latin typeface="Arial"/>
            </a:endParaRPr>
          </a:p>
        </p:txBody>
      </p:sp>
      <p:pic>
        <p:nvPicPr>
          <p:cNvPr id="495" name="Picture 7" descr=""/>
          <p:cNvPicPr/>
          <p:nvPr/>
        </p:nvPicPr>
        <p:blipFill>
          <a:blip r:embed="rId1"/>
          <a:stretch/>
        </p:blipFill>
        <p:spPr>
          <a:xfrm>
            <a:off x="1295280" y="380880"/>
            <a:ext cx="7093080" cy="53038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ocumenting Results </a:t>
            </a:r>
            <a:endParaRPr b="0" lang="en-US" sz="3600" spc="-1" strike="noStrike">
              <a:solidFill>
                <a:srgbClr val="222222"/>
              </a:solidFill>
              <a:latin typeface="Arial"/>
            </a:endParaRPr>
          </a:p>
        </p:txBody>
      </p:sp>
      <p:sp>
        <p:nvSpPr>
          <p:cNvPr id="49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minimum, each information asset-threat pair should have documented control strategy clearly identifying any remaining residual risk</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other option: document outcome of control strategy for each information asset-vulnerability pair as an action pla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assessment may be documented in a topic-specific report</a:t>
            </a:r>
            <a:endParaRPr b="0" lang="en-US" sz="2600" spc="-1" strike="noStrike">
              <a:solidFill>
                <a:srgbClr val="222222"/>
              </a:solidFill>
              <a:latin typeface="Arial"/>
            </a:endParaRPr>
          </a:p>
        </p:txBody>
      </p:sp>
      <p:sp>
        <p:nvSpPr>
          <p:cNvPr id="4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7AD6-16D2-4441-8E29-D6E89E24DA8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ecommended Risk Control Practices</a:t>
            </a:r>
            <a:endParaRPr b="0" lang="en-US" sz="3600" spc="-1" strike="noStrike">
              <a:solidFill>
                <a:srgbClr val="222222"/>
              </a:solidFill>
              <a:latin typeface="Arial"/>
            </a:endParaRPr>
          </a:p>
        </p:txBody>
      </p:sp>
      <p:sp>
        <p:nvSpPr>
          <p:cNvPr id="50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vince budget authorities to spend up to value of asset to protect from identified thre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nal control choice may be balance of controls providing greatest value to as many asset-threat pairs as possib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s looking to implement controls that don’t involve such complex, inexact, and dynamic calculations</a:t>
            </a:r>
            <a:endParaRPr b="0" lang="en-US" sz="2600" spc="-1" strike="noStrike">
              <a:solidFill>
                <a:srgbClr val="222222"/>
              </a:solidFill>
              <a:latin typeface="Arial"/>
            </a:endParaRPr>
          </a:p>
        </p:txBody>
      </p:sp>
      <p:sp>
        <p:nvSpPr>
          <p:cNvPr id="5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5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8A32-7BB8-4703-BBCD-6D995E29B55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505" name="PlaceHolder 2"/>
          <p:cNvSpPr>
            <a:spLocks noGrp="1"/>
          </p:cNvSpPr>
          <p:nvPr>
            <p:ph/>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identification: formal process of examining and documenting risk in information systems</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control: process of taking carefully reasoned steps to ensure the confidentiality, integrity, and availability of components of an information system</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identification</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 risk management strategy enables identification, classification, and prioritization of organization’s information assets </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sidual risk: risk remaining to the information asset even after the existing control is applied</a:t>
            </a:r>
            <a:endParaRPr b="0" lang="en-US" sz="2400" spc="-1" strike="noStrike">
              <a:solidFill>
                <a:srgbClr val="222222"/>
              </a:solidFill>
              <a:latin typeface="Arial"/>
            </a:endParaRPr>
          </a:p>
        </p:txBody>
      </p:sp>
      <p:sp>
        <p:nvSpPr>
          <p:cNvPr id="5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5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84D0-EAF2-4F84-AD0D-4C5E24F9542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inued)</a:t>
            </a:r>
            <a:endParaRPr b="0" lang="en-US" sz="3600" spc="-1" strike="noStrike">
              <a:solidFill>
                <a:srgbClr val="222222"/>
              </a:solidFill>
              <a:latin typeface="Arial"/>
            </a:endParaRPr>
          </a:p>
        </p:txBody>
      </p:sp>
      <p:sp>
        <p:nvSpPr>
          <p:cNvPr id="50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control: five strategies are used to control risks that result from vulnerabiliti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end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ransf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itigat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cep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erminate</a:t>
            </a:r>
            <a:endParaRPr b="0" lang="en-US" sz="2400" spc="-1" strike="noStrike">
              <a:solidFill>
                <a:srgbClr val="222222"/>
              </a:solidFill>
              <a:latin typeface="Arial"/>
            </a:endParaRPr>
          </a:p>
        </p:txBody>
      </p:sp>
      <p:sp>
        <p:nvSpPr>
          <p:cNvPr id="5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5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2AB9-6810-42F7-A6CE-2786345255C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inued)</a:t>
            </a:r>
            <a:endParaRPr b="0" lang="en-US" sz="3600" spc="-1" strike="noStrike">
              <a:solidFill>
                <a:srgbClr val="222222"/>
              </a:solidFill>
              <a:latin typeface="Arial"/>
            </a:endParaRPr>
          </a:p>
        </p:txBody>
      </p:sp>
      <p:sp>
        <p:nvSpPr>
          <p:cNvPr id="5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lecting a risk control strateg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st Benefit Analysi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easibility Stud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Qualitative versus Quantitative Risk Control</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est Practices and Benchmark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rganizational Feasibility, Operational Feasibility, Technical Feasibility, and Political Feasibilit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isk Appetite: organizational risk toler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esidual risk: risk remaining after application of risk controls</a:t>
            </a:r>
            <a:endParaRPr b="0" lang="en-US" sz="2600" spc="-1" strike="noStrike">
              <a:solidFill>
                <a:srgbClr val="222222"/>
              </a:solidFill>
              <a:latin typeface="Arial"/>
            </a:endParaRPr>
          </a:p>
        </p:txBody>
      </p:sp>
      <p:sp>
        <p:nvSpPr>
          <p:cNvPr id="51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51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E420-8B52-4BF7-805C-37499BF91F82}"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0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2C71-3D9B-47F0-9791-A1EE79B4220F}"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02" name="Picture 2" descr=""/>
          <p:cNvPicPr/>
          <p:nvPr/>
        </p:nvPicPr>
        <p:blipFill>
          <a:blip r:embed="rId1"/>
          <a:stretch/>
        </p:blipFill>
        <p:spPr>
          <a:xfrm>
            <a:off x="237960" y="152280"/>
            <a:ext cx="8677440" cy="5307120"/>
          </a:xfrm>
          <a:prstGeom prst="rect">
            <a:avLst/>
          </a:prstGeom>
          <a:ln w="0">
            <a:noFill/>
          </a:ln>
        </p:spPr>
      </p:pic>
      <p:sp>
        <p:nvSpPr>
          <p:cNvPr id="303" name="Rectangle 6"/>
          <p:cNvSpPr/>
          <p:nvPr/>
        </p:nvSpPr>
        <p:spPr>
          <a:xfrm>
            <a:off x="2461680" y="5726160"/>
            <a:ext cx="47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1 Components of Risk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Roles of the Communities of Interest</a:t>
            </a:r>
            <a:endParaRPr b="0" lang="en-US" sz="3600" spc="-1" strike="noStrike">
              <a:solidFill>
                <a:srgbClr val="222222"/>
              </a:solidFill>
              <a:latin typeface="Arial"/>
            </a:endParaRPr>
          </a:p>
        </p:txBody>
      </p:sp>
      <p:sp>
        <p:nvSpPr>
          <p:cNvPr id="30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management and users, and information technology all must work togeth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munities of interest are responsible fo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valuating the risk contro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termining which control options are cost effective for the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quiring or installing the needed contro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nsuring that the controls remain effective</a:t>
            </a:r>
            <a:endParaRPr b="0" lang="en-US" sz="2400" spc="-1" strike="noStrike">
              <a:solidFill>
                <a:srgbClr val="222222"/>
              </a:solidFill>
              <a:latin typeface="Arial"/>
            </a:endParaRPr>
          </a:p>
        </p:txBody>
      </p:sp>
      <p:sp>
        <p:nvSpPr>
          <p:cNvPr id="3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C1EA-DDE0-41E2-A3D9-0A5570D7B75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isk Identification</a:t>
            </a:r>
            <a:endParaRPr b="0" lang="en-US" sz="3600" spc="-1" strike="noStrike">
              <a:solidFill>
                <a:srgbClr val="222222"/>
              </a:solidFill>
              <a:latin typeface="Arial"/>
            </a:endParaRPr>
          </a:p>
        </p:txBody>
      </p:sp>
      <p:sp>
        <p:nvSpPr>
          <p:cNvPr id="30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management involves identifying, classifying, and prioritizing an organization’s asse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 threat assessment process identifies and quantifies the risks facing each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onents of risk identific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eop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cedur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at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oft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ardware</a:t>
            </a:r>
            <a:endParaRPr b="0" lang="en-US" sz="2400" spc="-1" strike="noStrike">
              <a:solidFill>
                <a:srgbClr val="222222"/>
              </a:solidFill>
              <a:latin typeface="Arial"/>
            </a:endParaRPr>
          </a:p>
        </p:txBody>
      </p:sp>
      <p:sp>
        <p:nvSpPr>
          <p:cNvPr id="3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1DD0-6477-4BE1-B55F-7EC49BFADE8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lan and Organize the Process</a:t>
            </a:r>
            <a:endParaRPr b="0" lang="en-US" sz="3600" spc="-1" strike="noStrike">
              <a:solidFill>
                <a:srgbClr val="222222"/>
              </a:solidFill>
              <a:latin typeface="Arial"/>
            </a:endParaRPr>
          </a:p>
        </p:txBody>
      </p:sp>
      <p:sp>
        <p:nvSpPr>
          <p:cNvPr id="3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rst step in the Risk Identification process is to follow your project management principl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egin by organizing a team with representation across all affected group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process must then be planned ou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eriodic deliverabl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view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esentations to managemen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asks laid out, assignments made and timetables discussed</a:t>
            </a:r>
            <a:endParaRPr b="0" lang="en-US" sz="2600" spc="-1" strike="noStrike">
              <a:solidFill>
                <a:srgbClr val="222222"/>
              </a:solidFill>
              <a:latin typeface="Arial"/>
            </a:endParaRPr>
          </a:p>
        </p:txBody>
      </p:sp>
      <p:sp>
        <p:nvSpPr>
          <p:cNvPr id="31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1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9A24-A0B7-4759-9B89-E20E93849B5B}"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24:19Z</dcterms:created>
  <dc:creator/>
  <dc:description/>
  <dc:language>en-US</dc:language>
  <cp:lastModifiedBy>Rita</cp:lastModifiedBy>
  <dcterms:modified xsi:type="dcterms:W3CDTF">2011-04-16T00:07:10Z</dcterms:modified>
  <cp:revision>83</cp:revision>
  <dc:subject/>
  <dc:title>Principals of Information Security,  Fourth Edition</dc:title>
</cp:coreProperties>
</file>