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F4CFB-1DEE-41A5-9521-30ADBBFB40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8127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E6A4C-6041-419D-9BF0-AFBC9194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127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8127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F0C7F-1813-4391-BB37-8FE6041D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8127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8127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8127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81AD1-D769-4683-B446-E0E48C60D9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2A056-6C66-45C6-85BA-62FCEAB8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4E4FE-0F2D-41A1-AEF7-C73CDCA7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B0D29-B7D7-4B95-A52E-13750924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6C3B1-9A77-43DD-9329-DCFEE51C5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B797F-49FE-45EF-96D5-D2CDDFF39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8127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A02E6-A7E0-4753-9D47-797A7396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8127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F38D6-2CB9-4ADC-AA70-EF6956EC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127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3E009-3191-4841-B4F2-760D310D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960" y="655272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305920" y="6552720"/>
            <a:ext cx="761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947B-9CEA-4E7E-8EFE-BADE2C5FD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ate Placeholder 3"/>
          <p:cNvSpPr/>
          <p:nvPr/>
        </p:nvSpPr>
        <p:spPr>
          <a:xfrm>
            <a:off x="76320" y="6553080"/>
            <a:ext cx="152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Slide Number Placeholder 4"/>
          <p:cNvSpPr/>
          <p:nvPr/>
        </p:nvSpPr>
        <p:spPr>
          <a:xfrm>
            <a:off x="8305920" y="6553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CAA0-BAD9-4BB5-9757-F2A410077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2120" y="151920"/>
            <a:ext cx="8159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ecture 1: Signals &amp; Systems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1) Systems, signals, mathematical models.  Continuous-time and discrete-time signals and systems.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ergy and power signals.  Linear systems.  Examples for use throughout the course, introduction to Matlab and Simulink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ecific Objectiv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e, using examples, what is a signal and what is a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 mathematical models are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continuous-time and discrete-time representations and how are they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ief introduction to Matlab and Simu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3"/>
          <p:cNvSpPr/>
          <p:nvPr/>
        </p:nvSpPr>
        <p:spPr>
          <a:xfrm>
            <a:off x="76320" y="6553080"/>
            <a:ext cx="152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8305920" y="6553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71BB-0C6B-41AA-9A97-92D1DAFCD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: An Electrical Circuit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2895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ulink representation of the electrica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1752480" y="1836720"/>
            <a:ext cx="457200" cy="457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8"/>
          <p:cNvGrpSpPr/>
          <p:nvPr/>
        </p:nvGrpSpPr>
        <p:grpSpPr>
          <a:xfrm>
            <a:off x="4495680" y="2027160"/>
            <a:ext cx="511200" cy="75960"/>
            <a:chOff x="4495680" y="2027160"/>
            <a:chExt cx="511200" cy="75960"/>
          </a:xfrm>
        </p:grpSpPr>
        <p:sp>
          <p:nvSpPr>
            <p:cNvPr id="142" name="Line 9"/>
            <p:cNvSpPr/>
            <p:nvPr/>
          </p:nvSpPr>
          <p:spPr>
            <a:xfrm>
              <a:off x="4495680" y="2027160"/>
              <a:ext cx="511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0"/>
            <p:cNvSpPr/>
            <p:nvPr/>
          </p:nvSpPr>
          <p:spPr>
            <a:xfrm>
              <a:off x="4495680" y="2103120"/>
              <a:ext cx="511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Freeform 11"/>
          <p:cNvSpPr/>
          <p:nvPr/>
        </p:nvSpPr>
        <p:spPr>
          <a:xfrm>
            <a:off x="1979640" y="2109960"/>
            <a:ext cx="2805120" cy="480960"/>
          </a:xfrm>
          <a:custGeom>
            <a:avLst/>
            <a:gdLst>
              <a:gd name="textAreaLeft" fmla="*/ 0 w 2805120"/>
              <a:gd name="textAreaRight" fmla="*/ 2805480 w 280512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1767" h="303">
                <a:moveTo>
                  <a:pt x="1" y="117"/>
                </a:moveTo>
                <a:lnTo>
                  <a:pt x="0" y="303"/>
                </a:lnTo>
                <a:lnTo>
                  <a:pt x="1767" y="303"/>
                </a:lnTo>
                <a:lnTo>
                  <a:pt x="176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2"/>
          <p:cNvSpPr/>
          <p:nvPr/>
        </p:nvSpPr>
        <p:spPr>
          <a:xfrm>
            <a:off x="1979640" y="1265400"/>
            <a:ext cx="2793960" cy="750600"/>
          </a:xfrm>
          <a:custGeom>
            <a:avLst/>
            <a:gdLst>
              <a:gd name="textAreaLeft" fmla="*/ 0 w 2793960"/>
              <a:gd name="textAreaRight" fmla="*/ 2794320 w 2793960"/>
              <a:gd name="textAreaTop" fmla="*/ 0 h 750600"/>
              <a:gd name="textAreaBottom" fmla="*/ 750960 h 750600"/>
            </a:gdLst>
            <a:ahLst/>
            <a:rect l="textAreaLeft" t="textAreaTop" r="textAreaRight" b="textAreaBottom"/>
            <a:pathLst>
              <a:path w="1760" h="473">
                <a:moveTo>
                  <a:pt x="1" y="360"/>
                </a:moveTo>
                <a:lnTo>
                  <a:pt x="0" y="104"/>
                </a:lnTo>
                <a:lnTo>
                  <a:pt x="615" y="97"/>
                </a:lnTo>
                <a:lnTo>
                  <a:pt x="667" y="26"/>
                </a:lnTo>
                <a:lnTo>
                  <a:pt x="725" y="181"/>
                </a:lnTo>
                <a:lnTo>
                  <a:pt x="809" y="0"/>
                </a:lnTo>
                <a:lnTo>
                  <a:pt x="867" y="169"/>
                </a:lnTo>
                <a:lnTo>
                  <a:pt x="951" y="7"/>
                </a:lnTo>
                <a:lnTo>
                  <a:pt x="1010" y="169"/>
                </a:lnTo>
                <a:lnTo>
                  <a:pt x="1042" y="97"/>
                </a:lnTo>
                <a:lnTo>
                  <a:pt x="1760" y="104"/>
                </a:lnTo>
                <a:lnTo>
                  <a:pt x="1760" y="47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3"/>
          <p:cNvSpPr/>
          <p:nvPr/>
        </p:nvSpPr>
        <p:spPr>
          <a:xfrm>
            <a:off x="3200400" y="176040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336" h="192">
                <a:moveTo>
                  <a:pt x="0" y="0"/>
                </a:moveTo>
                <a:lnTo>
                  <a:pt x="240" y="0"/>
                </a:lnTo>
                <a:cubicBezTo>
                  <a:pt x="296" y="8"/>
                  <a:pt x="320" y="16"/>
                  <a:pt x="336" y="48"/>
                </a:cubicBezTo>
                <a:lnTo>
                  <a:pt x="336" y="1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3341880" y="176040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5097600" y="18367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1287720" y="18367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3125520" y="846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4052880" y="1897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19"/>
              <p:cNvSpPr txBox="1"/>
              <p:nvPr/>
            </p:nvSpPr>
            <p:spPr>
              <a:xfrm>
                <a:off x="5675400" y="1143000"/>
                <a:ext cx="225900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53" name="Group 32"/>
          <p:cNvGrpSpPr/>
          <p:nvPr/>
        </p:nvGrpSpPr>
        <p:grpSpPr>
          <a:xfrm>
            <a:off x="457200" y="3476520"/>
            <a:ext cx="4825800" cy="2781360"/>
            <a:chOff x="457200" y="3476520"/>
            <a:chExt cx="4825800" cy="2781360"/>
          </a:xfrm>
        </p:grpSpPr>
        <p:pic>
          <p:nvPicPr>
            <p:cNvPr id="154" name="Picture 22" descr=""/>
            <p:cNvPicPr/>
            <p:nvPr/>
          </p:nvPicPr>
          <p:blipFill>
            <a:blip r:embed="rId1"/>
            <a:stretch/>
          </p:blipFill>
          <p:spPr>
            <a:xfrm>
              <a:off x="457200" y="3476520"/>
              <a:ext cx="4825800" cy="27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Oval 26"/>
            <p:cNvSpPr/>
            <p:nvPr/>
          </p:nvSpPr>
          <p:spPr>
            <a:xfrm>
              <a:off x="2133360" y="5181480"/>
              <a:ext cx="1371600" cy="6858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27"/>
            <p:cNvSpPr/>
            <p:nvPr/>
          </p:nvSpPr>
          <p:spPr>
            <a:xfrm>
              <a:off x="846000" y="4613400"/>
              <a:ext cx="816120" cy="6858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28"/>
            <p:cNvSpPr/>
            <p:nvPr/>
          </p:nvSpPr>
          <p:spPr>
            <a:xfrm>
              <a:off x="1529640" y="4433760"/>
              <a:ext cx="578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Arial"/>
                </a:rPr>
                <a:t>v</a:t>
              </a:r>
              <a:r>
                <a:rPr b="0" i="1" lang="en-US" sz="1800" spc="-1" strike="noStrike" baseline="-25000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29"/>
            <p:cNvSpPr/>
            <p:nvPr/>
          </p:nvSpPr>
          <p:spPr>
            <a:xfrm>
              <a:off x="4294080" y="4751280"/>
              <a:ext cx="816120" cy="6858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30"/>
            <p:cNvSpPr/>
            <p:nvPr/>
          </p:nvSpPr>
          <p:spPr>
            <a:xfrm>
              <a:off x="4196520" y="4419720"/>
              <a:ext cx="578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Arial"/>
                </a:rPr>
                <a:t>v</a:t>
              </a:r>
              <a:r>
                <a:rPr b="0" i="1" lang="en-US" sz="1800" spc="-1" strike="noStrike" baseline="-25000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31"/>
            <p:cNvSpPr/>
            <p:nvPr/>
          </p:nvSpPr>
          <p:spPr>
            <a:xfrm>
              <a:off x="3500640" y="54244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Arial"/>
                </a:rPr>
                <a:t>first order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Arial"/>
                </a:rPr>
                <a:t>system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35"/>
          <p:cNvGrpSpPr/>
          <p:nvPr/>
        </p:nvGrpSpPr>
        <p:grpSpPr>
          <a:xfrm>
            <a:off x="6033960" y="3616200"/>
            <a:ext cx="2729160" cy="2405160"/>
            <a:chOff x="6033960" y="3616200"/>
            <a:chExt cx="2729160" cy="2405160"/>
          </a:xfrm>
        </p:grpSpPr>
        <p:pic>
          <p:nvPicPr>
            <p:cNvPr id="162" name="Picture 23" descr=""/>
            <p:cNvPicPr/>
            <p:nvPr/>
          </p:nvPicPr>
          <p:blipFill>
            <a:blip r:embed="rId2"/>
            <a:stretch/>
          </p:blipFill>
          <p:spPr>
            <a:xfrm>
              <a:off x="6140520" y="3616200"/>
              <a:ext cx="2622600" cy="240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33"/>
            <p:cNvSpPr/>
            <p:nvPr/>
          </p:nvSpPr>
          <p:spPr>
            <a:xfrm rot="16200000">
              <a:off x="5901120" y="4470480"/>
              <a:ext cx="67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0000"/>
                  </a:solidFill>
                  <a:latin typeface="Arial"/>
                </a:rPr>
                <a:t>v</a:t>
              </a:r>
              <a:r>
                <a:rPr b="0" i="1" lang="en-GB" sz="1800" spc="-1" strike="noStrike" baseline="-25000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0" i="1" lang="en-GB" sz="1800" spc="-1" strike="noStrike">
                  <a:solidFill>
                    <a:srgbClr val="ff0000"/>
                  </a:solidFill>
                  <a:latin typeface="Arial"/>
                </a:rPr>
                <a:t>, v</a:t>
              </a:r>
              <a:r>
                <a:rPr b="0" i="1" lang="en-GB" sz="1800" spc="-1" strike="noStrike" baseline="-25000">
                  <a:solidFill>
                    <a:srgbClr val="ff0000"/>
                  </a:solidFill>
                  <a:latin typeface="Arial"/>
                </a:rPr>
                <a:t>c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34"/>
            <p:cNvSpPr/>
            <p:nvPr/>
          </p:nvSpPr>
          <p:spPr>
            <a:xfrm>
              <a:off x="7907040" y="565308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8305920" y="6553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E35B-9FE4-40C9-97DF-D4DEE7DA2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tinuous &amp; Discrete-Time Mathematical Models of 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tinuous-Tim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continuous time systems represent how continuous signals are transformed vi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circuit, car velo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screte-Tim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discrete time systems represent how discrete signals are transformed vi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fference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bank account, discrete car velocity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0"/>
              <p:cNvSpPr txBox="1"/>
              <p:nvPr/>
            </p:nvSpPr>
            <p:spPr>
              <a:xfrm>
                <a:off x="5187960" y="1523880"/>
                <a:ext cx="31258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"/>
              <p:cNvSpPr txBox="1"/>
              <p:nvPr/>
            </p:nvSpPr>
            <p:spPr>
              <a:xfrm>
                <a:off x="5410080" y="2362320"/>
                <a:ext cx="240984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ρ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Text Box 6"/>
          <p:cNvSpPr/>
          <p:nvPr/>
        </p:nvSpPr>
        <p:spPr>
          <a:xfrm>
            <a:off x="5025600" y="3124080"/>
            <a:ext cx="376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rst order differential equation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2"/>
              <p:cNvSpPr txBox="1"/>
              <p:nvPr/>
            </p:nvSpPr>
            <p:spPr>
              <a:xfrm>
                <a:off x="4800600" y="3886200"/>
                <a:ext cx="26798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3"/>
              <p:cNvSpPr txBox="1"/>
              <p:nvPr/>
            </p:nvSpPr>
            <p:spPr>
              <a:xfrm>
                <a:off x="4795920" y="4362480"/>
                <a:ext cx="39085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ρΔ</m:t>
                        </m:r>
                      </m:den>
                    </m:f>
                    <m:r>
                      <m:t xml:space="preserve">v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ρΔ</m:t>
                        </m:r>
                      </m:den>
                    </m:f>
                    <m:r>
                      <m:t xml:space="preserve">f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Text Box 9"/>
          <p:cNvSpPr/>
          <p:nvPr/>
        </p:nvSpPr>
        <p:spPr>
          <a:xfrm>
            <a:off x="4871880" y="6080040"/>
            <a:ext cx="370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rst order difference equation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4876920" y="5321160"/>
                <a:ext cx="31701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(</m:t>
                        </m:r>
                        <m:r>
                          <m:t xml:space="preserve">nΔ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nΔ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3"/>
          <p:cNvSpPr/>
          <p:nvPr/>
        </p:nvSpPr>
        <p:spPr>
          <a:xfrm>
            <a:off x="76320" y="6553080"/>
            <a:ext cx="152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8305920" y="6553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5EC9-FF9B-490F-B109-58E5B2F0A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perties of a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0280" y="1066320"/>
            <a:ext cx="8083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is course, we shall be particularly interested in signals with certain proper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us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a system is causal if the output at a time, only depends on input values up to that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a system is linear if the output of the scaled sum of two input signals is the equivalent scaled sum of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ime-invarian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a system is time invariant if the system’s output is the same, given the same input signal, regardless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properties define a large class of tractable, useful systems and will be further considered in the coming le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76320" y="6553080"/>
            <a:ext cx="152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8305920" y="6553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7CB4-E948-4CBF-A485-3B84B3E61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troduction to Matlab/Simulink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33530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lick on the Matlab icon/start menu initialises the Matlab environmen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main window is the dynamic command interpreter which allows the user to issue Matlab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variable browser shows which variables currently exist in the worksp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3581280" y="2362320"/>
            <a:ext cx="5286600" cy="3273480"/>
          </a:xfrm>
          <a:prstGeom prst="rect">
            <a:avLst/>
          </a:prstGeom>
          <a:ln w="0">
            <a:noFill/>
          </a:ln>
        </p:spPr>
      </p:pic>
      <p:sp>
        <p:nvSpPr>
          <p:cNvPr id="184" name="Oval 5"/>
          <p:cNvSpPr/>
          <p:nvPr/>
        </p:nvSpPr>
        <p:spPr>
          <a:xfrm>
            <a:off x="3505320" y="2743200"/>
            <a:ext cx="2590560" cy="152388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AutoShape 6"/>
          <p:cNvCxnSpPr>
            <a:stCxn id="184" idx="0"/>
          </p:cNvCxnSpPr>
          <p:nvPr/>
        </p:nvCxnSpPr>
        <p:spPr>
          <a:xfrm flipV="1">
            <a:off x="4800240" y="1675800"/>
            <a:ext cx="229320" cy="1035720"/>
          </a:xfrm>
          <a:prstGeom prst="straightConnector1">
            <a:avLst/>
          </a:prstGeom>
          <a:ln w="57240">
            <a:solidFill>
              <a:srgbClr val="ff0000"/>
            </a:solidFill>
            <a:miter/>
          </a:ln>
        </p:spPr>
      </p:cxnSp>
      <p:sp>
        <p:nvSpPr>
          <p:cNvPr id="186" name="Text Box 7"/>
          <p:cNvSpPr/>
          <p:nvPr/>
        </p:nvSpPr>
        <p:spPr>
          <a:xfrm>
            <a:off x="3810960" y="1219320"/>
            <a:ext cx="118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riable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8"/>
          <p:cNvSpPr/>
          <p:nvPr/>
        </p:nvSpPr>
        <p:spPr>
          <a:xfrm>
            <a:off x="6019920" y="2743200"/>
            <a:ext cx="2819160" cy="28195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AutoShape 9"/>
          <p:cNvCxnSpPr/>
          <p:nvPr/>
        </p:nvCxnSpPr>
        <p:spPr>
          <a:xfrm flipV="1">
            <a:off x="7391160" y="1599480"/>
            <a:ext cx="229320" cy="1143720"/>
          </a:xfrm>
          <a:prstGeom prst="straightConnector1">
            <a:avLst/>
          </a:prstGeom>
          <a:ln w="57240">
            <a:solidFill>
              <a:srgbClr val="ff0000"/>
            </a:solidFill>
            <a:miter/>
          </a:ln>
        </p:spPr>
      </p:cxnSp>
      <p:sp>
        <p:nvSpPr>
          <p:cNvPr id="189" name="Text Box 10"/>
          <p:cNvSpPr/>
          <p:nvPr/>
        </p:nvSpPr>
        <p:spPr>
          <a:xfrm>
            <a:off x="6492960" y="1143000"/>
            <a:ext cx="135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76320" y="6553080"/>
            <a:ext cx="152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8305920" y="6553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7568-2C30-428A-B8EE-BD5FFFA1E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 to Matlab/Simulink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the following at the Matlab command promp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simu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llowing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mulink librar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hould app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2863800" y="2514600"/>
            <a:ext cx="323208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Date Placeholder 3"/>
          <p:cNvSpPr/>
          <p:nvPr/>
        </p:nvSpPr>
        <p:spPr>
          <a:xfrm>
            <a:off x="76320" y="6553080"/>
            <a:ext cx="152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8305920" y="6553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383F-BCB4-4654-AC15-EA0C16F20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 to Matlab/Simulink (3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File-New to create a new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sp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drag and drop objects from the library onto the work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ation-St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the pull down menu will run the dynamic simulation.  Click on the blocks to view the data or alter the run-time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838080" y="2019240"/>
            <a:ext cx="4826160" cy="2781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"/>
          <p:cNvPicPr/>
          <p:nvPr/>
        </p:nvPicPr>
        <p:blipFill>
          <a:blip r:embed="rId2"/>
          <a:stretch/>
        </p:blipFill>
        <p:spPr>
          <a:xfrm>
            <a:off x="5987880" y="2168640"/>
            <a:ext cx="262260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76320" y="6553080"/>
            <a:ext cx="152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8305920" y="6553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070F-383B-42FC-9B3D-91A83602D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ow Are Signal &amp; Systems Related (i)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36600" y="1066320"/>
            <a:ext cx="8470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to design a system to process a signal in particular w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ign a system to restore or enhance a particular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move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high frequency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background communication no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hance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noisy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images from spacecraf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ume a signal is represented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x(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ign a system to remove the unknown “noise” componen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, so tha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3527280" y="5410080"/>
            <a:ext cx="1752840" cy="9144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AutoShape 5"/>
          <p:cNvCxnSpPr>
            <a:endCxn id="205" idx="1"/>
          </p:cNvCxnSpPr>
          <p:nvPr/>
        </p:nvCxnSpPr>
        <p:spPr>
          <a:xfrm>
            <a:off x="1209600" y="5852880"/>
            <a:ext cx="2309040" cy="14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Text Box 6"/>
          <p:cNvSpPr/>
          <p:nvPr/>
        </p:nvSpPr>
        <p:spPr>
          <a:xfrm>
            <a:off x="1139040" y="5334120"/>
            <a:ext cx="22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5455080" y="5329080"/>
            <a:ext cx="149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AutoShape 8"/>
          <p:cNvCxnSpPr>
            <a:stCxn id="205" idx="3"/>
          </p:cNvCxnSpPr>
          <p:nvPr/>
        </p:nvCxnSpPr>
        <p:spPr>
          <a:xfrm>
            <a:off x="5289480" y="5866920"/>
            <a:ext cx="17438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3"/>
          <p:cNvSpPr/>
          <p:nvPr/>
        </p:nvSpPr>
        <p:spPr>
          <a:xfrm>
            <a:off x="76320" y="6553080"/>
            <a:ext cx="152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8305920" y="6553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9E47-EB84-44EE-9F44-6E59FC40D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9280" y="151920"/>
            <a:ext cx="8245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ow Are Signal &amp; Systems Related (ii)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0680" y="1066320"/>
            <a:ext cx="8162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to design a system to extract specific pieces of information from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stimate the heart rate from an electrocardio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stimate economic indicators (bear, bull) from stock market val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ume a signal is represented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x(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ign a system to “invert” the transformatio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), so tha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28"/>
          <p:cNvSpPr/>
          <p:nvPr/>
        </p:nvSpPr>
        <p:spPr>
          <a:xfrm>
            <a:off x="3222720" y="5334120"/>
            <a:ext cx="1752480" cy="9144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AutoShape 1029"/>
          <p:cNvCxnSpPr>
            <a:endCxn id="214" idx="1"/>
          </p:cNvCxnSpPr>
          <p:nvPr/>
        </p:nvCxnSpPr>
        <p:spPr>
          <a:xfrm>
            <a:off x="1479240" y="5779800"/>
            <a:ext cx="1734120" cy="11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Text Box 1030"/>
          <p:cNvSpPr/>
          <p:nvPr/>
        </p:nvSpPr>
        <p:spPr>
          <a:xfrm>
            <a:off x="1217520" y="525780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31"/>
          <p:cNvSpPr/>
          <p:nvPr/>
        </p:nvSpPr>
        <p:spPr>
          <a:xfrm>
            <a:off x="5196240" y="5257800"/>
            <a:ext cx="27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AutoShape 1032"/>
          <p:cNvCxnSpPr>
            <a:stCxn id="214" idx="3"/>
          </p:cNvCxnSpPr>
          <p:nvPr/>
        </p:nvCxnSpPr>
        <p:spPr>
          <a:xfrm>
            <a:off x="4984560" y="5790960"/>
            <a:ext cx="17434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76320" y="6553080"/>
            <a:ext cx="152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8305920" y="6553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E5B3-B582-46AC-981E-F2BBC789A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9760" y="151920"/>
            <a:ext cx="8124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ow Are Signal &amp; Systems Related (iii)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90680" y="1066320"/>
            <a:ext cx="8162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to design a (dynamic) system to modify or control the output of another (dynamic)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trol an aircraft’s altitude, velocity, heading by adjusting throttle, rudder, ailer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trol the temperature of a building by adjusting the heating/cooling energy flo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ume a signal is represented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x(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ign a system to “invert” the transformatio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), so tha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3222720" y="5486400"/>
            <a:ext cx="1752480" cy="9144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 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AutoShape 5"/>
          <p:cNvCxnSpPr>
            <a:endCxn id="223" idx="1"/>
          </p:cNvCxnSpPr>
          <p:nvPr/>
        </p:nvCxnSpPr>
        <p:spPr>
          <a:xfrm>
            <a:off x="2209320" y="5937120"/>
            <a:ext cx="1003680" cy="7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5" name="Text Box 6"/>
          <p:cNvSpPr/>
          <p:nvPr/>
        </p:nvSpPr>
        <p:spPr>
          <a:xfrm>
            <a:off x="2217960" y="54100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5187960" y="5410080"/>
            <a:ext cx="143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AutoShape 8"/>
          <p:cNvCxnSpPr>
            <a:stCxn id="223" idx="3"/>
          </p:cNvCxnSpPr>
          <p:nvPr/>
        </p:nvCxnSpPr>
        <p:spPr>
          <a:xfrm>
            <a:off x="4984560" y="5943240"/>
            <a:ext cx="17434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3"/>
          <p:cNvSpPr/>
          <p:nvPr/>
        </p:nvSpPr>
        <p:spPr>
          <a:xfrm>
            <a:off x="76320" y="6553080"/>
            <a:ext cx="152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4"/>
          <p:cNvSpPr/>
          <p:nvPr/>
        </p:nvSpPr>
        <p:spPr>
          <a:xfrm>
            <a:off x="8305920" y="6553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E68F-53AE-4B76-B347-197EA9B68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ecture 1: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9800" y="1066320"/>
            <a:ext cx="8204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gnals and systems are pervasive in modern engineering cour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lectrical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hysical models and control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igital media (music, voice, photos, vide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studying the general properties of signals and systems, you c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sign systems to remove noise/enhance measurement from audio and picture/video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vestigate stability of physical struc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trol the performance mechanical and electrical devic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will be the foundation for studying systems and signals as a generic subject on this cou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Date Placeholder 3"/>
          <p:cNvSpPr/>
          <p:nvPr/>
        </p:nvSpPr>
        <p:spPr>
          <a:xfrm>
            <a:off x="76320" y="6553080"/>
            <a:ext cx="152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lide Number Placeholder 4"/>
          <p:cNvSpPr/>
          <p:nvPr/>
        </p:nvSpPr>
        <p:spPr>
          <a:xfrm>
            <a:off x="8305920" y="6553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8C24-9124-47D0-A823-62CBD51C0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commended Reading Mate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42880" y="1066320"/>
            <a:ext cx="8058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gnals and Systems, Oppenheim &amp; Willsky, Sec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gnals and Systems, Haykin &amp; Van Veen, Sec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T Lectur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tering Matlab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tering Simulink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other introductory sources available.  Some background reading at the start of the course will pay dividends when things get more diffic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Date Placeholder 3"/>
          <p:cNvSpPr/>
          <p:nvPr/>
        </p:nvSpPr>
        <p:spPr>
          <a:xfrm>
            <a:off x="76320" y="6553080"/>
            <a:ext cx="152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4"/>
          <p:cNvSpPr/>
          <p:nvPr/>
        </p:nvSpPr>
        <p:spPr>
          <a:xfrm>
            <a:off x="8305920" y="6553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60FB-2D9E-4D71-BF95-E573F8C5F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ecture 1: Exerci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 SaS OW, Chapter 1.  This contains most of the material in the first three lectures, a bit of pre-reading will be extremely usefu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S 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1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lecture 2, we’ll be looking at signals in more depth and look at how they can be represented in Matlab/Simu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76320" y="6553080"/>
            <a:ext cx="152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4"/>
          <p:cNvSpPr/>
          <p:nvPr/>
        </p:nvSpPr>
        <p:spPr>
          <a:xfrm>
            <a:off x="8305920" y="6553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A350-B72A-4BF1-8DAD-7CA969147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is a Signal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ignal is a pattern of variation of som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gnals are variables that carry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 of signal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ectrical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oltages and currents in a circu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oustic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oustic pressure (sound) over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chanical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elocity of a car over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deo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tensity level of a pixel (camera, video) over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76320" y="6553080"/>
            <a:ext cx="152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8305920" y="6553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F759-FC23-4B1C-8406-2205EBD14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ow is a Signal Represented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hematically, signals are represented as a function of one or mor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dependent variabl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instance a black &amp; white video signal intensity is dependent o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oordinates and tim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this course, we shall be exclusively concerned with signals that are a function of a single variable: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1034"/>
          <p:cNvGrpSpPr/>
          <p:nvPr/>
        </p:nvGrpSpPr>
        <p:grpSpPr>
          <a:xfrm>
            <a:off x="1838160" y="3733920"/>
            <a:ext cx="5553000" cy="2666880"/>
            <a:chOff x="1838160" y="3733920"/>
            <a:chExt cx="5553000" cy="2666880"/>
          </a:xfrm>
        </p:grpSpPr>
        <p:grpSp>
          <p:nvGrpSpPr>
            <p:cNvPr id="57" name="Group 1032"/>
            <p:cNvGrpSpPr/>
            <p:nvPr/>
          </p:nvGrpSpPr>
          <p:grpSpPr>
            <a:xfrm>
              <a:off x="1838160" y="3733920"/>
              <a:ext cx="5553000" cy="2666880"/>
              <a:chOff x="1838160" y="3733920"/>
              <a:chExt cx="5553000" cy="2666880"/>
            </a:xfrm>
          </p:grpSpPr>
          <p:sp>
            <p:nvSpPr>
              <p:cNvPr id="58" name="Line 1028"/>
              <p:cNvSpPr/>
              <p:nvPr/>
            </p:nvSpPr>
            <p:spPr>
              <a:xfrm>
                <a:off x="1981080" y="5410440"/>
                <a:ext cx="5410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1029"/>
              <p:cNvSpPr/>
              <p:nvPr/>
            </p:nvSpPr>
            <p:spPr>
              <a:xfrm flipV="1">
                <a:off x="2438280" y="3733920"/>
                <a:ext cx="0" cy="266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Text Box 1030"/>
              <p:cNvSpPr/>
              <p:nvPr/>
            </p:nvSpPr>
            <p:spPr>
              <a:xfrm>
                <a:off x="6857640" y="5497560"/>
                <a:ext cx="27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1031"/>
              <p:cNvSpPr/>
              <p:nvPr/>
            </p:nvSpPr>
            <p:spPr>
              <a:xfrm>
                <a:off x="1838160" y="3733920"/>
                <a:ext cx="52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GB" sz="2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Freeform 1033"/>
            <p:cNvSpPr/>
            <p:nvPr/>
          </p:nvSpPr>
          <p:spPr>
            <a:xfrm>
              <a:off x="2133360" y="4089240"/>
              <a:ext cx="5029200" cy="1968840"/>
            </a:xfrm>
            <a:custGeom>
              <a:avLst/>
              <a:gdLst>
                <a:gd name="textAreaLeft" fmla="*/ 0 w 5029200"/>
                <a:gd name="textAreaRight" fmla="*/ 5029560 w 5029200"/>
                <a:gd name="textAreaTop" fmla="*/ 0 h 1968840"/>
                <a:gd name="textAreaBottom" fmla="*/ 1969200 h 1968840"/>
              </a:gdLst>
              <a:ahLst/>
              <a:rect l="textAreaLeft" t="textAreaTop" r="textAreaRight" b="textAreaBottom"/>
              <a:pathLst>
                <a:path w="3024" h="1240">
                  <a:moveTo>
                    <a:pt x="0" y="304"/>
                  </a:moveTo>
                  <a:cubicBezTo>
                    <a:pt x="148" y="152"/>
                    <a:pt x="296" y="0"/>
                    <a:pt x="432" y="16"/>
                  </a:cubicBezTo>
                  <a:cubicBezTo>
                    <a:pt x="568" y="32"/>
                    <a:pt x="672" y="200"/>
                    <a:pt x="816" y="400"/>
                  </a:cubicBezTo>
                  <a:cubicBezTo>
                    <a:pt x="960" y="600"/>
                    <a:pt x="1144" y="1192"/>
                    <a:pt x="1296" y="1216"/>
                  </a:cubicBezTo>
                  <a:cubicBezTo>
                    <a:pt x="1448" y="1240"/>
                    <a:pt x="1592" y="704"/>
                    <a:pt x="1728" y="544"/>
                  </a:cubicBezTo>
                  <a:cubicBezTo>
                    <a:pt x="1864" y="384"/>
                    <a:pt x="1896" y="312"/>
                    <a:pt x="2112" y="256"/>
                  </a:cubicBezTo>
                  <a:cubicBezTo>
                    <a:pt x="2328" y="200"/>
                    <a:pt x="2676" y="204"/>
                    <a:pt x="3024" y="2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76320" y="6553080"/>
            <a:ext cx="152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8305920" y="6553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BA3C-5EAA-4543-8311-43B208844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151920"/>
            <a:ext cx="8286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: Signals in an Electrical Circui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9800" y="2895480"/>
            <a:ext cx="8204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ignal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re patterns of variation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, we could also have considered the voltage across the resistor or the current as sig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7"/>
          <p:cNvSpPr/>
          <p:nvPr/>
        </p:nvSpPr>
        <p:spPr>
          <a:xfrm>
            <a:off x="1447920" y="1836720"/>
            <a:ext cx="457200" cy="457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3"/>
          <p:cNvGrpSpPr/>
          <p:nvPr/>
        </p:nvGrpSpPr>
        <p:grpSpPr>
          <a:xfrm>
            <a:off x="4191120" y="2027160"/>
            <a:ext cx="511200" cy="75960"/>
            <a:chOff x="4191120" y="2027160"/>
            <a:chExt cx="511200" cy="75960"/>
          </a:xfrm>
        </p:grpSpPr>
        <p:sp>
          <p:nvSpPr>
            <p:cNvPr id="69" name="Line 10"/>
            <p:cNvSpPr/>
            <p:nvPr/>
          </p:nvSpPr>
          <p:spPr>
            <a:xfrm>
              <a:off x="4191120" y="2027160"/>
              <a:ext cx="511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2"/>
            <p:cNvSpPr/>
            <p:nvPr/>
          </p:nvSpPr>
          <p:spPr>
            <a:xfrm>
              <a:off x="4191120" y="2103120"/>
              <a:ext cx="511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Freeform 15"/>
          <p:cNvSpPr/>
          <p:nvPr/>
        </p:nvSpPr>
        <p:spPr>
          <a:xfrm>
            <a:off x="1674720" y="2109960"/>
            <a:ext cx="2805120" cy="480960"/>
          </a:xfrm>
          <a:custGeom>
            <a:avLst/>
            <a:gdLst>
              <a:gd name="textAreaLeft" fmla="*/ 0 w 2805120"/>
              <a:gd name="textAreaRight" fmla="*/ 2805480 w 280512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1767" h="303">
                <a:moveTo>
                  <a:pt x="1" y="117"/>
                </a:moveTo>
                <a:lnTo>
                  <a:pt x="0" y="303"/>
                </a:lnTo>
                <a:lnTo>
                  <a:pt x="1767" y="303"/>
                </a:lnTo>
                <a:lnTo>
                  <a:pt x="176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6"/>
          <p:cNvSpPr/>
          <p:nvPr/>
        </p:nvSpPr>
        <p:spPr>
          <a:xfrm>
            <a:off x="1674720" y="1265400"/>
            <a:ext cx="2793960" cy="750600"/>
          </a:xfrm>
          <a:custGeom>
            <a:avLst/>
            <a:gdLst>
              <a:gd name="textAreaLeft" fmla="*/ 0 w 2793960"/>
              <a:gd name="textAreaRight" fmla="*/ 2794320 w 2793960"/>
              <a:gd name="textAreaTop" fmla="*/ 0 h 750600"/>
              <a:gd name="textAreaBottom" fmla="*/ 750960 h 750600"/>
            </a:gdLst>
            <a:ahLst/>
            <a:rect l="textAreaLeft" t="textAreaTop" r="textAreaRight" b="textAreaBottom"/>
            <a:pathLst>
              <a:path w="1760" h="473">
                <a:moveTo>
                  <a:pt x="1" y="360"/>
                </a:moveTo>
                <a:lnTo>
                  <a:pt x="0" y="104"/>
                </a:lnTo>
                <a:lnTo>
                  <a:pt x="615" y="97"/>
                </a:lnTo>
                <a:lnTo>
                  <a:pt x="667" y="26"/>
                </a:lnTo>
                <a:lnTo>
                  <a:pt x="725" y="181"/>
                </a:lnTo>
                <a:lnTo>
                  <a:pt x="809" y="0"/>
                </a:lnTo>
                <a:lnTo>
                  <a:pt x="867" y="169"/>
                </a:lnTo>
                <a:lnTo>
                  <a:pt x="951" y="7"/>
                </a:lnTo>
                <a:lnTo>
                  <a:pt x="1010" y="169"/>
                </a:lnTo>
                <a:lnTo>
                  <a:pt x="1042" y="97"/>
                </a:lnTo>
                <a:lnTo>
                  <a:pt x="1760" y="104"/>
                </a:lnTo>
                <a:lnTo>
                  <a:pt x="1760" y="47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8"/>
          <p:cNvSpPr/>
          <p:nvPr/>
        </p:nvSpPr>
        <p:spPr>
          <a:xfrm>
            <a:off x="2895480" y="176040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336" h="192">
                <a:moveTo>
                  <a:pt x="0" y="0"/>
                </a:moveTo>
                <a:lnTo>
                  <a:pt x="240" y="0"/>
                </a:lnTo>
                <a:cubicBezTo>
                  <a:pt x="296" y="8"/>
                  <a:pt x="320" y="16"/>
                  <a:pt x="336" y="48"/>
                </a:cubicBezTo>
                <a:lnTo>
                  <a:pt x="336" y="1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9"/>
          <p:cNvSpPr/>
          <p:nvPr/>
        </p:nvSpPr>
        <p:spPr>
          <a:xfrm>
            <a:off x="3037320" y="176040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0"/>
          <p:cNvSpPr/>
          <p:nvPr/>
        </p:nvSpPr>
        <p:spPr>
          <a:xfrm>
            <a:off x="4793040" y="18367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982800" y="18367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2820960" y="846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5"/>
          <p:cNvSpPr/>
          <p:nvPr/>
        </p:nvSpPr>
        <p:spPr>
          <a:xfrm>
            <a:off x="3747960" y="1897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26"/>
              <p:cNvSpPr txBox="1"/>
              <p:nvPr/>
            </p:nvSpPr>
            <p:spPr>
              <a:xfrm>
                <a:off x="5479920" y="920880"/>
                <a:ext cx="2797200" cy="18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" name="Text Box 30"/>
          <p:cNvSpPr/>
          <p:nvPr/>
        </p:nvSpPr>
        <p:spPr>
          <a:xfrm>
            <a:off x="5105520" y="3718080"/>
            <a:ext cx="352080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ep (signal)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C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 order (exponential) response fo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9" descr=""/>
          <p:cNvPicPr/>
          <p:nvPr/>
        </p:nvPicPr>
        <p:blipFill>
          <a:blip r:embed="rId1"/>
          <a:srcRect l="3384" t="24621" r="4513" b="8618"/>
          <a:stretch/>
        </p:blipFill>
        <p:spPr>
          <a:xfrm>
            <a:off x="1676520" y="3505320"/>
            <a:ext cx="3098520" cy="2057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1"/>
          <p:cNvSpPr/>
          <p:nvPr/>
        </p:nvSpPr>
        <p:spPr>
          <a:xfrm rot="16200000">
            <a:off x="1162440" y="3944880"/>
            <a:ext cx="67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2"/>
          <p:cNvSpPr/>
          <p:nvPr/>
        </p:nvSpPr>
        <p:spPr>
          <a:xfrm>
            <a:off x="4765320" y="53560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Date Placeholder 3"/>
          <p:cNvSpPr/>
          <p:nvPr/>
        </p:nvSpPr>
        <p:spPr>
          <a:xfrm>
            <a:off x="76320" y="6553080"/>
            <a:ext cx="152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4"/>
          <p:cNvSpPr/>
          <p:nvPr/>
        </p:nvSpPr>
        <p:spPr>
          <a:xfrm>
            <a:off x="8305920" y="6553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F322-38E8-49B8-AA37-8236CB960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tinuous &amp; Discrete-Time Sign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4419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tinuous-Time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signals in the real world are continuous time, as the scale is infinitesimally f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g voltage, velocit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note b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, where the time interval may be bounded (finite) or infin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screte-Time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real world and many digital signals are discrete time, as they are samp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pixels, daily stock price (anything that a digital computer proces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note b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, wher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an integer value that varies discre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ampled continuous signal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 =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sampl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51"/>
          <p:cNvGrpSpPr/>
          <p:nvPr/>
        </p:nvGrpSpPr>
        <p:grpSpPr>
          <a:xfrm>
            <a:off x="4903920" y="1447920"/>
            <a:ext cx="3782880" cy="1527120"/>
            <a:chOff x="4903920" y="1447920"/>
            <a:chExt cx="3782880" cy="1527120"/>
          </a:xfrm>
        </p:grpSpPr>
        <p:sp>
          <p:nvSpPr>
            <p:cNvPr id="89" name="Line 6"/>
            <p:cNvSpPr/>
            <p:nvPr/>
          </p:nvSpPr>
          <p:spPr>
            <a:xfrm>
              <a:off x="5129280" y="2549520"/>
              <a:ext cx="3557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7"/>
            <p:cNvSpPr/>
            <p:nvPr/>
          </p:nvSpPr>
          <p:spPr>
            <a:xfrm flipV="1">
              <a:off x="5430960" y="1447920"/>
              <a:ext cx="0" cy="1527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9"/>
            <p:cNvSpPr/>
            <p:nvPr/>
          </p:nvSpPr>
          <p:spPr>
            <a:xfrm>
              <a:off x="4903920" y="1447920"/>
              <a:ext cx="5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0"/>
            <p:cNvSpPr/>
            <p:nvPr/>
          </p:nvSpPr>
          <p:spPr>
            <a:xfrm>
              <a:off x="5229360" y="1681200"/>
              <a:ext cx="3306600" cy="1293840"/>
            </a:xfrm>
            <a:custGeom>
              <a:avLst/>
              <a:gdLst>
                <a:gd name="textAreaLeft" fmla="*/ 0 w 3306600"/>
                <a:gd name="textAreaRight" fmla="*/ 3306960 w 3306600"/>
                <a:gd name="textAreaTop" fmla="*/ 0 h 1293840"/>
                <a:gd name="textAreaBottom" fmla="*/ 1294200 h 1293840"/>
              </a:gdLst>
              <a:ahLst/>
              <a:rect l="textAreaLeft" t="textAreaTop" r="textAreaRight" b="textAreaBottom"/>
              <a:pathLst>
                <a:path w="3024" h="1240">
                  <a:moveTo>
                    <a:pt x="0" y="304"/>
                  </a:moveTo>
                  <a:cubicBezTo>
                    <a:pt x="148" y="152"/>
                    <a:pt x="296" y="0"/>
                    <a:pt x="432" y="16"/>
                  </a:cubicBezTo>
                  <a:cubicBezTo>
                    <a:pt x="568" y="32"/>
                    <a:pt x="672" y="200"/>
                    <a:pt x="816" y="400"/>
                  </a:cubicBezTo>
                  <a:cubicBezTo>
                    <a:pt x="960" y="600"/>
                    <a:pt x="1144" y="1192"/>
                    <a:pt x="1296" y="1216"/>
                  </a:cubicBezTo>
                  <a:cubicBezTo>
                    <a:pt x="1448" y="1240"/>
                    <a:pt x="1592" y="704"/>
                    <a:pt x="1728" y="544"/>
                  </a:cubicBezTo>
                  <a:cubicBezTo>
                    <a:pt x="1864" y="384"/>
                    <a:pt x="1896" y="312"/>
                    <a:pt x="2112" y="256"/>
                  </a:cubicBezTo>
                  <a:cubicBezTo>
                    <a:pt x="2328" y="200"/>
                    <a:pt x="2676" y="204"/>
                    <a:pt x="3024" y="20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8"/>
            <p:cNvSpPr/>
            <p:nvPr/>
          </p:nvSpPr>
          <p:spPr>
            <a:xfrm>
              <a:off x="8113680" y="2575080"/>
              <a:ext cx="25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50"/>
          <p:cNvGrpSpPr/>
          <p:nvPr/>
        </p:nvGrpSpPr>
        <p:grpSpPr>
          <a:xfrm>
            <a:off x="4952880" y="4220640"/>
            <a:ext cx="3859200" cy="1648440"/>
            <a:chOff x="4952880" y="4220640"/>
            <a:chExt cx="3859200" cy="1648440"/>
          </a:xfrm>
        </p:grpSpPr>
        <p:sp>
          <p:nvSpPr>
            <p:cNvPr id="95" name="Line 13"/>
            <p:cNvSpPr/>
            <p:nvPr/>
          </p:nvSpPr>
          <p:spPr>
            <a:xfrm>
              <a:off x="5254560" y="5475240"/>
              <a:ext cx="3557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4"/>
            <p:cNvSpPr/>
            <p:nvPr/>
          </p:nvSpPr>
          <p:spPr>
            <a:xfrm flipV="1">
              <a:off x="5495760" y="4220640"/>
              <a:ext cx="0" cy="148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5"/>
            <p:cNvSpPr/>
            <p:nvPr/>
          </p:nvSpPr>
          <p:spPr>
            <a:xfrm>
              <a:off x="4952880" y="4373640"/>
              <a:ext cx="61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7"/>
            <p:cNvSpPr/>
            <p:nvPr/>
          </p:nvSpPr>
          <p:spPr>
            <a:xfrm>
              <a:off x="8229600" y="5500800"/>
              <a:ext cx="26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20"/>
            <p:cNvSpPr/>
            <p:nvPr/>
          </p:nvSpPr>
          <p:spPr>
            <a:xfrm flipV="1">
              <a:off x="5805360" y="5097600"/>
              <a:ext cx="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21"/>
            <p:cNvSpPr/>
            <p:nvPr/>
          </p:nvSpPr>
          <p:spPr>
            <a:xfrm>
              <a:off x="5764320" y="502740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24"/>
            <p:cNvSpPr/>
            <p:nvPr/>
          </p:nvSpPr>
          <p:spPr>
            <a:xfrm flipV="1">
              <a:off x="6110280" y="5173200"/>
              <a:ext cx="0" cy="304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5"/>
            <p:cNvSpPr/>
            <p:nvPr/>
          </p:nvSpPr>
          <p:spPr>
            <a:xfrm>
              <a:off x="6068880" y="51354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27"/>
            <p:cNvSpPr/>
            <p:nvPr/>
          </p:nvSpPr>
          <p:spPr>
            <a:xfrm flipV="1">
              <a:off x="6415200" y="5176800"/>
              <a:ext cx="0" cy="295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28"/>
            <p:cNvSpPr/>
            <p:nvPr/>
          </p:nvSpPr>
          <p:spPr>
            <a:xfrm>
              <a:off x="6373800" y="51354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30"/>
            <p:cNvSpPr/>
            <p:nvPr/>
          </p:nvSpPr>
          <p:spPr>
            <a:xfrm flipV="1">
              <a:off x="6719760" y="5091120"/>
              <a:ext cx="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1"/>
            <p:cNvSpPr/>
            <p:nvPr/>
          </p:nvSpPr>
          <p:spPr>
            <a:xfrm>
              <a:off x="6678720" y="502128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33"/>
            <p:cNvSpPr/>
            <p:nvPr/>
          </p:nvSpPr>
          <p:spPr>
            <a:xfrm flipV="1">
              <a:off x="7024680" y="4838400"/>
              <a:ext cx="0" cy="633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34"/>
            <p:cNvSpPr/>
            <p:nvPr/>
          </p:nvSpPr>
          <p:spPr>
            <a:xfrm>
              <a:off x="6983280" y="483084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36"/>
            <p:cNvSpPr/>
            <p:nvPr/>
          </p:nvSpPr>
          <p:spPr>
            <a:xfrm flipV="1">
              <a:off x="7329600" y="4628880"/>
              <a:ext cx="0" cy="842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37"/>
            <p:cNvSpPr/>
            <p:nvPr/>
          </p:nvSpPr>
          <p:spPr>
            <a:xfrm>
              <a:off x="7288200" y="460224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39"/>
            <p:cNvSpPr/>
            <p:nvPr/>
          </p:nvSpPr>
          <p:spPr>
            <a:xfrm flipV="1">
              <a:off x="7634160" y="4490640"/>
              <a:ext cx="0" cy="981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40"/>
            <p:cNvSpPr/>
            <p:nvPr/>
          </p:nvSpPr>
          <p:spPr>
            <a:xfrm>
              <a:off x="7593120" y="444960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42"/>
            <p:cNvSpPr/>
            <p:nvPr/>
          </p:nvSpPr>
          <p:spPr>
            <a:xfrm flipV="1">
              <a:off x="7939080" y="4505040"/>
              <a:ext cx="0" cy="966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43"/>
            <p:cNvSpPr/>
            <p:nvPr/>
          </p:nvSpPr>
          <p:spPr>
            <a:xfrm>
              <a:off x="7897680" y="44496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45"/>
            <p:cNvSpPr/>
            <p:nvPr/>
          </p:nvSpPr>
          <p:spPr>
            <a:xfrm flipV="1">
              <a:off x="8244000" y="4638240"/>
              <a:ext cx="0" cy="833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46"/>
            <p:cNvSpPr/>
            <p:nvPr/>
          </p:nvSpPr>
          <p:spPr>
            <a:xfrm>
              <a:off x="8202600" y="460224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48"/>
            <p:cNvSpPr/>
            <p:nvPr/>
          </p:nvSpPr>
          <p:spPr>
            <a:xfrm flipV="1">
              <a:off x="5500800" y="4900320"/>
              <a:ext cx="0" cy="571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49"/>
            <p:cNvSpPr/>
            <p:nvPr/>
          </p:nvSpPr>
          <p:spPr>
            <a:xfrm>
              <a:off x="5459400" y="483084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76320" y="6553080"/>
            <a:ext cx="152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8305920" y="6553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00C1-DF6F-4612-BB3D-98885AB40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gnal Properti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0680" y="1066320"/>
            <a:ext cx="81626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is course, we shall be particularly interested in signals with certain proper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riodic signal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a signal is periodic if it repeats itself after a fixed perio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i.e.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+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for all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 A sin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signal is period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ven and odd signal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a signal is even i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-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= x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(i.e. it can be reflected in the axis at zero).  A signal is odd i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-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= -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.  Examples are cos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and sin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signals, respectiv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ponential and sinusoidal signal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a signal is (real) exponential if it can be represented a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e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Arial"/>
              </a:rPr>
              <a:t>a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 A signal is (complex) exponential if it can be represented in the same form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u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re complex nu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ep and pulse signal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A pulse signal is one which is nearly completely zero, apart from a short spike, </a:t>
            </a:r>
            <a:r>
              <a:rPr b="0" i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.  A step signal is zero up to a certain time, and then a constant value after that time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se properties define a large class of tractable, useful signals and will be further considered in the coming le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Date Placeholder 3"/>
          <p:cNvSpPr/>
          <p:nvPr/>
        </p:nvSpPr>
        <p:spPr>
          <a:xfrm>
            <a:off x="76320" y="6553080"/>
            <a:ext cx="152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8305920" y="6553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B5DC-BB2C-40C3-A469-0E92CC6D2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is a System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s process input signals to produce output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circuit involving a capacitor can be viewed as a system that transforms the source voltage (signal) to the voltage (signal) across the capaci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CD player takes the signal on the CD and transforms it into a signal sent to the loud speak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communication system is generally composed of three sub-systems, the transmitter, the channel and the receiver.  The channel typically attenuates and adds noise to the transmitted signal which must be processed by the recei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76320" y="6553080"/>
            <a:ext cx="152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8305920" y="6553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2F21-087B-441D-A9E1-83538093A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ow is a System Represented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ystem takes a signal as an input and transforms it into another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 very broad sense, a system can be represented as the ratio of the output signal over the input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at way, when we “multiply” the system by the input signal, we get the output sig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s concept will be firmed up in the coming wee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052"/>
          <p:cNvSpPr/>
          <p:nvPr/>
        </p:nvSpPr>
        <p:spPr>
          <a:xfrm>
            <a:off x="3386160" y="2133720"/>
            <a:ext cx="2209680" cy="11430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AutoShape 2054"/>
          <p:cNvCxnSpPr>
            <a:endCxn id="131" idx="1"/>
          </p:cNvCxnSpPr>
          <p:nvPr/>
        </p:nvCxnSpPr>
        <p:spPr>
          <a:xfrm>
            <a:off x="1600200" y="2704680"/>
            <a:ext cx="17769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AutoShape 2055"/>
          <p:cNvCxnSpPr>
            <a:stCxn id="131" idx="3"/>
          </p:cNvCxnSpPr>
          <p:nvPr/>
        </p:nvCxnSpPr>
        <p:spPr>
          <a:xfrm flipV="1">
            <a:off x="5605560" y="2696760"/>
            <a:ext cx="1769040" cy="8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" name="Text Box 2056"/>
          <p:cNvSpPr/>
          <p:nvPr/>
        </p:nvSpPr>
        <p:spPr>
          <a:xfrm>
            <a:off x="1143000" y="2263680"/>
            <a:ext cx="1854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sign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057"/>
          <p:cNvSpPr/>
          <p:nvPr/>
        </p:nvSpPr>
        <p:spPr>
          <a:xfrm>
            <a:off x="5748480" y="2263680"/>
            <a:ext cx="2176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sign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9-03-15T07:34:23Z</dcterms:modified>
  <cp:revision>459</cp:revision>
  <dc:subject/>
  <dc:title>PowerPoint Presentation</dc:title>
</cp:coreProperties>
</file>