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B656-C3BF-4345-983A-E4AB7ABF7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5CC8-67FC-4B3A-BBD7-007610D09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CB60-4C73-4379-B761-4E55DF0E7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E4E5-D3C3-474E-86C0-5E66B873D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4F9DB-E0F0-49BC-B40F-949FC50B3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EA1D6-D6B6-4FE6-B3F1-54BC85F5C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19402-9D6B-4C5A-A8E4-8643B3767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20398-54B2-4B4D-8377-3629D3C6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D65D1-7C0B-44EB-9C8B-729FB8D38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8A1B3-CCB7-4530-8971-87D28D81B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5701C-F80F-4F8E-A8FC-0AE5FD6A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E24E-8C7A-436A-A3C9-AB1DDC1A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FDAFA-9782-4431-AB11-2229C7AD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69FD1-7C34-4626-AE59-1F6CF944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38379-4B1B-49F1-B232-AC59D01BA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79C80-F74C-439A-8668-3ED9F6A25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4A275-35B2-415E-96AA-DD054BE6D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80739-4946-41CD-B84E-A1CBAFE9F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3E081-D55A-4D39-8B46-EEDA98A84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56E16-6F3F-4313-A5BE-A8B7C9B33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2A34E-9214-4EE7-AFB3-934ED9D97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0931B-9965-4644-B603-E86D7B8D4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4D18-7626-4F47-A435-3BD3AC92F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CE974-48DF-4D16-87D5-2F3F7479A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2AB2A-E8AD-403A-B1A3-67B99942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A0533-2279-45AB-BD2B-45BACA30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8C302-D2E9-403E-A7DA-8A51459A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79BA8-7A40-41A5-92E7-A3C3AE47C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43B6F-3FC6-40FA-9579-EEC2419FE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5C14D-859B-47A2-8E4A-DF96AF56A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FFEB-3346-4C99-A524-D675247DD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0C61-84FA-4276-8063-B7B72B0DB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E405-38BB-4EC8-BE7C-DFA45D968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0896-BECF-4517-AF53-514AE373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8276-C901-4036-8047-F749BDDD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195F-F184-4CF5-9131-41AD6637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8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1920" y="761760"/>
            <a:ext cx="89917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66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66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66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66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00006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66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00006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66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66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02EA6-B61F-4B45-95D4-74C481597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8D20B-4D35-4286-92C4-BE92401B209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74527-881D-4981-8570-31627252426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5F348-0C5D-4E7A-B000-0687BB9484F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8380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gnals &amp;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7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4A097-3D3C-4D99-95FA-C3A83678A38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mpulse Response Examp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impulse response of the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obtained by setting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] = </a:t>
            </a: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] resulting 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impulse response is thus a finite-length sequence of length 4 given b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4"/>
              <p:cNvSpPr txBox="1"/>
              <p:nvPr/>
            </p:nvSpPr>
            <p:spPr>
              <a:xfrm>
                <a:off x="838080" y="2209680"/>
                <a:ext cx="655344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]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7"/>
              <p:cNvSpPr txBox="1"/>
              <p:nvPr/>
            </p:nvSpPr>
            <p:spPr>
              <a:xfrm>
                <a:off x="914400" y="3200400"/>
                <a:ext cx="647712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]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10"/>
              <p:cNvSpPr txBox="1"/>
              <p:nvPr/>
            </p:nvSpPr>
            <p:spPr>
              <a:xfrm>
                <a:off x="1828800" y="5181480"/>
                <a:ext cx="473724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limLow>
                                <m:e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lim>
                                  <m:r>
                                    <m:t xml:space="preserve">↑</m:t>
                                  </m:r>
                                </m:lim>
                              </m:limLow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7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A8954-CE5D-47F9-BA14-7C5A7505525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mpulse Response Examp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- The impulse response of the discrete-time accumula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obtained by setting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] = </a:t>
            </a: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] resulting 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4"/>
              <p:cNvSpPr txBox="1"/>
              <p:nvPr/>
            </p:nvSpPr>
            <p:spPr>
              <a:xfrm>
                <a:off x="2514600" y="2590920"/>
                <a:ext cx="2336760" cy="113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ℓ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ℓ</m:t>
                        </m:r>
                        <m:r>
                          <m:t xml:space="preserve">]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7"/>
              <p:cNvSpPr txBox="1"/>
              <p:nvPr/>
            </p:nvSpPr>
            <p:spPr>
              <a:xfrm>
                <a:off x="2286000" y="4876920"/>
                <a:ext cx="3454560" cy="113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ℓ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δ</m:t>
                        </m:r>
                        <m:r>
                          <m:t xml:space="preserve">[</m:t>
                        </m:r>
                        <m:r>
                          <m:t xml:space="preserve">ℓ</m:t>
                        </m:r>
                        <m:r>
                          <m:t xml:space="preserve">]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5CDFB-E761-42F1-9379-854DFAE87CC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Arial"/>
              </a:rPr>
              <a:t>Time-Domain Characterization of LTI Discrete-Time Syst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put-Output Relationshi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-A consequence of the linear, time-invariance property is that an LTI discrete-time system is completely characterized by its impulse respon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nowing the impulse response one can compute the output of the system for any arbitrary inpu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F307B-1B86-494C-B635-453FDD04F73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Arial"/>
              </a:rPr>
              <a:t>Time-Domain Characterization of LTI Discrete-Time Syst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] denote the impulse response of a LTI discrete-time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compute its output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] for the inpu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 the system is linear, we can compute its outputs for each member of the input separately and add the individual outputs to determin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]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4"/>
              <p:cNvSpPr txBox="1"/>
              <p:nvPr/>
            </p:nvSpPr>
            <p:spPr>
              <a:xfrm>
                <a:off x="1600200" y="3276720"/>
                <a:ext cx="632448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  <m:r>
                      <m:t xml:space="preserve">−</m:t>
                    </m:r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B92C2-C4DE-4AE4-A826-F0497F5EC32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Arial"/>
              </a:rPr>
              <a:t>Time-Domain Characterization of LTI Discrete-Time Syst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696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nce the system is time-invaria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3584160" y="2666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5406840" y="266688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6"/>
              <p:cNvSpPr txBox="1"/>
              <p:nvPr/>
            </p:nvSpPr>
            <p:spPr>
              <a:xfrm>
                <a:off x="3384720" y="3733920"/>
                <a:ext cx="315108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  <m:r>
                      <m:t xml:space="preserve">→</m:t>
                    </m:r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7"/>
              <p:cNvSpPr txBox="1"/>
              <p:nvPr/>
            </p:nvSpPr>
            <p:spPr>
              <a:xfrm>
                <a:off x="3301920" y="4216320"/>
                <a:ext cx="331632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]</m:t>
                    </m:r>
                    <m:r>
                      <m:t xml:space="preserve">→</m:t>
                    </m:r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8"/>
              <p:cNvSpPr txBox="1"/>
              <p:nvPr/>
            </p:nvSpPr>
            <p:spPr>
              <a:xfrm>
                <a:off x="3363840" y="4762440"/>
                <a:ext cx="327492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]</m:t>
                    </m:r>
                    <m:r>
                      <m:t xml:space="preserve">→</m:t>
                    </m:r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9"/>
              <p:cNvSpPr txBox="1"/>
              <p:nvPr/>
            </p:nvSpPr>
            <p:spPr>
              <a:xfrm>
                <a:off x="3429000" y="3352680"/>
                <a:ext cx="30733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]</m:t>
                    </m:r>
                    <m:r>
                      <m:t xml:space="preserve">→</m:t>
                    </m:r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2D110-AA20-4657-8437-62C60CC0C0F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Arial"/>
              </a:rPr>
              <a:t>Time-Domain Characterization of LTI Discrete-Time Syst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kewise, as the system is line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nce because of the linearity property we g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4"/>
          <p:cNvGrpSpPr/>
          <p:nvPr/>
        </p:nvGrpSpPr>
        <p:grpSpPr>
          <a:xfrm>
            <a:off x="2408400" y="2095560"/>
            <a:ext cx="4800240" cy="2525400"/>
            <a:chOff x="2408400" y="2095560"/>
            <a:chExt cx="4800240" cy="2525400"/>
          </a:xfrm>
        </p:grpSpPr>
        <mc:AlternateContent>
          <mc:Choice xmlns:a14="http://schemas.microsoft.com/office/drawing/2010/main" Requires="a14">
            <p:sp>
              <p:nvSpPr>
                <p:cNvPr id="184" name="Object 5"/>
                <p:cNvSpPr txBox="1"/>
                <p:nvPr/>
              </p:nvSpPr>
              <p:spPr>
                <a:xfrm>
                  <a:off x="2408400" y="4216320"/>
                  <a:ext cx="480024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5</m:t>
                      </m:r>
                      <m:r>
                        <m:t xml:space="preserve">δ</m:t>
                      </m:r>
                      <m:r>
                        <m:t xml:space="preserve">[</m:t>
                      </m:r>
                      <m:r>
                        <m:t xml:space="preserve">n</m:t>
                      </m:r>
                      <m:r>
                        <m:t xml:space="preserve">−</m:t>
                      </m:r>
                      <m:r>
                        <m:t xml:space="preserve">5</m:t>
                      </m:r>
                      <m:r>
                        <m:t xml:space="preserve">]</m:t>
                      </m:r>
                      <m:r>
                        <m:t xml:space="preserve">→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5</m:t>
                      </m:r>
                      <m:r>
                        <m:t xml:space="preserve">h</m:t>
                      </m:r>
                      <m:r>
                        <m:t xml:space="preserve">[</m:t>
                      </m:r>
                      <m:r>
                        <m:t xml:space="preserve">n</m:t>
                      </m:r>
                      <m:r>
                        <m:t xml:space="preserve">−</m:t>
                      </m:r>
                      <m:r>
                        <m:t xml:space="preserve">5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85" name="Text Box 6"/>
            <p:cNvSpPr/>
            <p:nvPr/>
          </p:nvSpPr>
          <p:spPr>
            <a:xfrm>
              <a:off x="3348000" y="2095560"/>
              <a:ext cx="311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input                    output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6" name="Object 7"/>
                <p:cNvSpPr txBox="1"/>
                <p:nvPr/>
              </p:nvSpPr>
              <p:spPr>
                <a:xfrm>
                  <a:off x="2559600" y="2565360"/>
                  <a:ext cx="441504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δ</m:t>
                      </m:r>
                      <m:r>
                        <m:t xml:space="preserve">[</m:t>
                      </m:r>
                      <m:r>
                        <m:t xml:space="preserve">n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]</m:t>
                      </m:r>
                      <m:r>
                        <m:t xml:space="preserve">→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h</m:t>
                      </m:r>
                      <m:r>
                        <m:t xml:space="preserve">[</m:t>
                      </m:r>
                      <m:r>
                        <m:t xml:space="preserve">n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7" name="Object 8"/>
                <p:cNvSpPr txBox="1"/>
                <p:nvPr/>
              </p:nvSpPr>
              <p:spPr>
                <a:xfrm>
                  <a:off x="2820600" y="3670200"/>
                  <a:ext cx="389268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δ</m:t>
                      </m:r>
                      <m:r>
                        <m:t xml:space="preserve">[</m:t>
                      </m:r>
                      <m:r>
                        <m:t xml:space="preserve">n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]</m:t>
                      </m:r>
                      <m:r>
                        <m:t xml:space="preserve">→</m:t>
                      </m:r>
                      <m:r>
                        <m:t xml:space="preserve">−</m:t>
                      </m:r>
                      <m:r>
                        <m:t xml:space="preserve">h</m:t>
                      </m:r>
                      <m:r>
                        <m:t xml:space="preserve">[</m:t>
                      </m:r>
                      <m:r>
                        <m:t xml:space="preserve">n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8" name="Object 9"/>
                <p:cNvSpPr txBox="1"/>
                <p:nvPr/>
              </p:nvSpPr>
              <p:spPr>
                <a:xfrm>
                  <a:off x="2690280" y="3111480"/>
                  <a:ext cx="415404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δ</m:t>
                      </m:r>
                      <m:r>
                        <m:t xml:space="preserve">[</m:t>
                      </m:r>
                      <m:r>
                        <m:t xml:space="preserve">n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]</m:t>
                      </m:r>
                      <m:r>
                        <m:t xml:space="preserve">→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h</m:t>
                      </m:r>
                      <m:r>
                        <m:t xml:space="preserve">[</m:t>
                      </m:r>
                      <m:r>
                        <m:t xml:space="preserve">n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9" name="Object 10"/>
              <p:cNvSpPr txBox="1"/>
              <p:nvPr/>
            </p:nvSpPr>
            <p:spPr>
              <a:xfrm>
                <a:off x="2146320" y="5486400"/>
                <a:ext cx="52005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11"/>
              <p:cNvSpPr txBox="1"/>
              <p:nvPr/>
            </p:nvSpPr>
            <p:spPr>
              <a:xfrm>
                <a:off x="3137040" y="5994360"/>
                <a:ext cx="412740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AB2B1-DAB4-4205-8493-0ECF4D68676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Arial"/>
              </a:rPr>
              <a:t>Time-Domain Characterization of LTI Discrete-Time Syst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w, any arbitrary input sequenc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] can be expressed as a linear combination of delayed and advanced unit sample sequences in the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response of the LTI system to an input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       will b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4"/>
              <p:cNvSpPr txBox="1"/>
              <p:nvPr/>
            </p:nvSpPr>
            <p:spPr>
              <a:xfrm>
                <a:off x="2362320" y="2971800"/>
                <a:ext cx="367020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  <m:r>
                          <m:t xml:space="preserve"> </m:t>
                        </m:r>
                        <m:r>
                          <m:t xml:space="preserve">δ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6"/>
              <p:cNvSpPr txBox="1"/>
              <p:nvPr/>
            </p:nvSpPr>
            <p:spPr>
              <a:xfrm>
                <a:off x="2133720" y="5638680"/>
                <a:ext cx="21733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k</m:t>
                    </m:r>
                    <m:r>
                      <m:t xml:space="preserve">]</m:t>
                    </m:r>
                    <m:r>
                      <m:t xml:space="preserve"> </m:t>
                    </m:r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7"/>
              <p:cNvSpPr txBox="1"/>
              <p:nvPr/>
            </p:nvSpPr>
            <p:spPr>
              <a:xfrm>
                <a:off x="5029200" y="5638680"/>
                <a:ext cx="21337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k</m:t>
                    </m:r>
                    <m:r>
                      <m:t xml:space="preserve">]</m:t>
                    </m:r>
                    <m:r>
                      <m:t xml:space="preserve"> </m:t>
                    </m:r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Text Box 8"/>
          <p:cNvSpPr/>
          <p:nvPr/>
        </p:nvSpPr>
        <p:spPr>
          <a:xfrm>
            <a:off x="2590920" y="5105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5638680" y="5105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8E1B0-B360-40AB-8D52-2C02A9684EC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17521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screte Time LTI Systems: </a:t>
            </a:r>
            <a:br>
              <a:rPr sz="4200"/>
            </a:b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E CONVOLUTION SUM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0B287-D955-4A16-950C-33640CB6823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The representation of discrete time signal in terms of impulse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mplest way is to visualize discrete time signal in terms of individual impuls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re we use scaled unit impulse sequenc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re the scaling on each impulse equals the value of x[n] at the particular instant the unit impulse occu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71C47-93EE-40B7-A563-7D769722500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raphicall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E0E80-34B8-4522-B0E9-A1E2724B994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oday's lecture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ear Time Invariant Syste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rete time LTI systems: Convolution Su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ous time LTI systems: Convolution Integr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perties of LTI 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iz at the end of le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416CD-288D-4F3E-BF18-82153AB2112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athematicall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09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182880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4"/>
          <p:cNvSpPr/>
          <p:nvPr/>
        </p:nvSpPr>
        <p:spPr>
          <a:xfrm>
            <a:off x="457200" y="380988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aramond"/>
              </a:rPr>
              <a:t>This is called sifting property .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9D43F-CE40-4798-B441-894E82E5932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ifting propert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property corresponds to the representation of an arbitrary sequence as a linear combination of shifted unit impulses ; where the weights in the linear combination are x[k] 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57F49-38D9-490F-9B44-80A20D03CF0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The discrete time unit impulse response and the convolution sum representation of LTI system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6034C-C446-4726-9B29-721DAA3B807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ignificance of sifting propert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present any input signal as a superposition of scaled version of a very simple set of elementary functions; namely; shifted unit impuls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ch of which is non-zero at a single point in time specified by the corresponding value of 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over property of time invariance states that the response of a time invariant system to the time shifted unit impulses are simply time shifted version of one anoth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7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FB66-A9BC-4AAE-9757-C8D928470FB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td…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se that the system is linear  and define 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[n] as a response of impulse[n-k]; th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superpositi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"/>
          <p:cNvPicPr/>
          <p:nvPr/>
        </p:nvPicPr>
        <p:blipFill>
          <a:blip r:embed="rId1"/>
          <a:stretch/>
        </p:blipFill>
        <p:spPr>
          <a:xfrm>
            <a:off x="1981080" y="2514600"/>
            <a:ext cx="3886200" cy="8049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"/>
          <p:cNvPicPr/>
          <p:nvPr/>
        </p:nvPicPr>
        <p:blipFill>
          <a:blip r:embed="rId2"/>
          <a:stretch/>
        </p:blipFill>
        <p:spPr>
          <a:xfrm>
            <a:off x="1828800" y="4572000"/>
            <a:ext cx="6248520" cy="8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7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DD8DA-2922-4EBD-9CED-67DEE465D62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ntd…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0010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w suppose that the system is LTI; and define the unit sample response 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[n] a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T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LTI system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"/>
          <p:cNvPicPr/>
          <p:nvPr/>
        </p:nvPicPr>
        <p:blipFill>
          <a:blip r:embed="rId1"/>
          <a:stretch/>
        </p:blipFill>
        <p:spPr>
          <a:xfrm>
            <a:off x="2743200" y="2133720"/>
            <a:ext cx="2009880" cy="4921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"/>
          <p:cNvPicPr/>
          <p:nvPr/>
        </p:nvPicPr>
        <p:blipFill>
          <a:blip r:embed="rId2"/>
          <a:stretch/>
        </p:blipFill>
        <p:spPr>
          <a:xfrm>
            <a:off x="2286000" y="2971800"/>
            <a:ext cx="2886120" cy="6667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"/>
          <p:cNvPicPr/>
          <p:nvPr/>
        </p:nvPicPr>
        <p:blipFill>
          <a:blip r:embed="rId3"/>
          <a:stretch/>
        </p:blipFill>
        <p:spPr>
          <a:xfrm>
            <a:off x="762120" y="4648320"/>
            <a:ext cx="708660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7E370-FDAC-4AC7-8BDD-8F2A118857F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volution sum/ Superposition sum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last equation is called superposition sum or the convolution sum. Operation on the right hand side is known as convolution of the sequence x[n] and h[n]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will represent the operation of the convolution symbolical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[n]=x[n]*h[n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TI system is completely characterized by its response to a single signal namely; its response to the unit impuls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91764-FD9F-4ACA-8EA2-CBEEFC0AFD5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Convolution sum representation of LTI system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35" name="Picture 3" descr=""/>
          <p:cNvPicPr/>
          <p:nvPr/>
        </p:nvPicPr>
        <p:blipFill>
          <a:blip r:embed="rId1"/>
          <a:stretch/>
        </p:blipFill>
        <p:spPr>
          <a:xfrm>
            <a:off x="685800" y="3352680"/>
            <a:ext cx="8229600" cy="106704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4"/>
          <p:cNvSpPr/>
          <p:nvPr/>
        </p:nvSpPr>
        <p:spPr>
          <a:xfrm>
            <a:off x="533520" y="16765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Mathematically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FA0CA-E792-4361-B7D8-C9C81325785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raphicall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39" name="Picture 3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229600" cy="453060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4"/>
          <p:cNvSpPr/>
          <p:nvPr/>
        </p:nvSpPr>
        <p:spPr>
          <a:xfrm>
            <a:off x="304920" y="502920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um up all the responses for all  K’s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7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42861-AF79-4298-B8D4-0EC5BEBF69A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td…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24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velop the sequenc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] generated by the convolution of the sequence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] an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] shown bel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4" descr=""/>
          <p:cNvPicPr/>
          <p:nvPr/>
        </p:nvPicPr>
        <p:blipFill>
          <a:blip r:embed="rId1"/>
          <a:stretch/>
        </p:blipFill>
        <p:spPr>
          <a:xfrm>
            <a:off x="3048120" y="2666880"/>
            <a:ext cx="3543120" cy="17719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9" descr=""/>
          <p:cNvPicPr/>
          <p:nvPr/>
        </p:nvPicPr>
        <p:blipFill>
          <a:blip r:embed="rId2"/>
          <a:stretch/>
        </p:blipFill>
        <p:spPr>
          <a:xfrm>
            <a:off x="2743200" y="4952880"/>
            <a:ext cx="329580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69B89-E98D-41C7-BB71-9322A7FFACC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inear Time Invariant System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system satisfying both th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inearit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ime-invarianc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roper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TI systems are mathematically easy to analyze and characterize, and consequently, easy to desig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ghly useful signal processing algorithms have been developed utilizing this class of systems over the last several decad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y possess superposition theore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84E20-1E2B-441A-888F-AD76A4C3FBC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7" name="Picture 4" descr=""/>
          <p:cNvPicPr/>
          <p:nvPr/>
        </p:nvPicPr>
        <p:blipFill>
          <a:blip r:embed="rId1"/>
          <a:stretch/>
        </p:blipFill>
        <p:spPr>
          <a:xfrm>
            <a:off x="2057400" y="304920"/>
            <a:ext cx="5029200" cy="579096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5"/>
          <p:cNvSpPr/>
          <p:nvPr/>
        </p:nvSpPr>
        <p:spPr>
          <a:xfrm>
            <a:off x="7315200" y="12193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(0)=x(0)h(0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7315200" y="2057400"/>
            <a:ext cx="1828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(1)=x(0)h(1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x(1)h(0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7315200" y="2819520"/>
            <a:ext cx="1828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(2)=x(2)h(0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x(1)h(1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0" y="22096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(1-k)=h[-(k-1)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Text Box 10"/>
          <p:cNvSpPr/>
          <p:nvPr/>
        </p:nvSpPr>
        <p:spPr>
          <a:xfrm>
            <a:off x="0" y="27432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(2-k)=h[-(k-2)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DE9BC-F8EA-46D0-A2C6-FB030753572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5438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7222A-CF50-43D2-929D-A670B5B38F3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20574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Continuous time systems: THE CONVOLUTION INTEGRAL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962E2-CC56-4815-A7DC-1E6C42A8135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What we had for discrete time signals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	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volution sum was the sifting property of discrete time unit impulse – that is, the mathematical representation of a signal as a superposition of scaled and shifted unit impulse func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CT signals consider impulse as an idealization of a pulse that is too shor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p CT signal as idealized  pulses with vanishingly small duration impuls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7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2137E-4BAB-4816-90B3-C6138280499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p of CT signal in terms of impuls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p any signal x(t) as sum of shifted, scaled impuls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2286000" y="2514600"/>
            <a:ext cx="4067280" cy="20811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6" descr=""/>
          <p:cNvPicPr/>
          <p:nvPr/>
        </p:nvPicPr>
        <p:blipFill>
          <a:blip r:embed="rId2"/>
          <a:stretch/>
        </p:blipFill>
        <p:spPr>
          <a:xfrm>
            <a:off x="2057400" y="5105520"/>
            <a:ext cx="4648320" cy="54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lide Number Placeholder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4F2CF-45D1-4A45-9BB5-6120663465F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deall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ulse has unit are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4" descr=""/>
          <p:cNvPicPr/>
          <p:nvPr/>
        </p:nvPicPr>
        <p:blipFill>
          <a:blip r:embed="rId1"/>
          <a:stretch/>
        </p:blipFill>
        <p:spPr>
          <a:xfrm>
            <a:off x="2133720" y="2743200"/>
            <a:ext cx="43434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8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D9E14-C7B3-47BC-AB1D-985C73F8DBA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ifting property of impuls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1"/>
          <a:stretch/>
        </p:blipFill>
        <p:spPr>
          <a:xfrm>
            <a:off x="905040" y="2484360"/>
            <a:ext cx="3143160" cy="4190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6" descr=""/>
          <p:cNvPicPr/>
          <p:nvPr/>
        </p:nvPicPr>
        <p:blipFill>
          <a:blip r:embed="rId2"/>
          <a:stretch/>
        </p:blipFill>
        <p:spPr>
          <a:xfrm>
            <a:off x="5257800" y="2133720"/>
            <a:ext cx="523800" cy="4302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0" descr=""/>
          <p:cNvPicPr/>
          <p:nvPr/>
        </p:nvPicPr>
        <p:blipFill>
          <a:blip r:embed="rId3"/>
          <a:stretch/>
        </p:blipFill>
        <p:spPr>
          <a:xfrm>
            <a:off x="2362320" y="4495680"/>
            <a:ext cx="3857400" cy="1341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3" descr=""/>
          <p:cNvPicPr/>
          <p:nvPr/>
        </p:nvPicPr>
        <p:blipFill>
          <a:blip r:embed="rId4"/>
          <a:stretch/>
        </p:blipFill>
        <p:spPr>
          <a:xfrm>
            <a:off x="0" y="99072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2" descr=""/>
          <p:cNvPicPr/>
          <p:nvPr/>
        </p:nvPicPr>
        <p:blipFill>
          <a:blip r:embed="rId5"/>
          <a:stretch/>
        </p:blipFill>
        <p:spPr>
          <a:xfrm>
            <a:off x="3733920" y="1523880"/>
            <a:ext cx="3476520" cy="6843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4" descr=""/>
          <p:cNvPicPr/>
          <p:nvPr/>
        </p:nvPicPr>
        <p:blipFill>
          <a:blip r:embed="rId6"/>
          <a:stretch/>
        </p:blipFill>
        <p:spPr>
          <a:xfrm>
            <a:off x="3886200" y="2590920"/>
            <a:ext cx="4791240" cy="9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161A4-B3A0-4369-8B4C-49C456C3157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sponse of LTI system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79" name="Picture 4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7162560" cy="14652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3" descr=""/>
          <p:cNvPicPr/>
          <p:nvPr/>
        </p:nvPicPr>
        <p:blipFill>
          <a:blip r:embed="rId2"/>
          <a:stretch/>
        </p:blipFill>
        <p:spPr>
          <a:xfrm>
            <a:off x="0" y="1066680"/>
            <a:ext cx="8229600" cy="8384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6" descr=""/>
          <p:cNvPicPr/>
          <p:nvPr/>
        </p:nvPicPr>
        <p:blipFill>
          <a:blip r:embed="rId3"/>
          <a:stretch/>
        </p:blipFill>
        <p:spPr>
          <a:xfrm>
            <a:off x="3429000" y="3886200"/>
            <a:ext cx="246708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9EBC4-CF28-4E46-BFA3-E6342C3D2A1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volution Integra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84" name="Picture 3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8229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E04FF-7E71-46AA-9BA4-423FE4E58CC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peration of convolu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87" name="Picture 3" descr=""/>
          <p:cNvPicPr/>
          <p:nvPr/>
        </p:nvPicPr>
        <p:blipFill>
          <a:blip r:embed="rId1"/>
          <a:stretch/>
        </p:blipFill>
        <p:spPr>
          <a:xfrm>
            <a:off x="0" y="990720"/>
            <a:ext cx="8229600" cy="13716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4" descr=""/>
          <p:cNvPicPr/>
          <p:nvPr/>
        </p:nvPicPr>
        <p:blipFill>
          <a:blip r:embed="rId2"/>
          <a:stretch/>
        </p:blipFill>
        <p:spPr>
          <a:xfrm>
            <a:off x="457200" y="2819520"/>
            <a:ext cx="765972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9D115-D189-4BE0-97AD-E286F25BE7E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ow superposition is applicab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we represent the input to an LTI system in terms of linear combination of a set of basic signals, we can then use superposition to compute the output of the system in terms of responses to these basic signa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6F5B0-70E6-4B2B-9BAF-9B1419A2D6B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amp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91" name="Picture 3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229600" cy="49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7FF89-AFEF-4088-ADFF-5829E1C5F93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4582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4FB4F-48E9-4451-84FB-B74755524F5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perties of LTI system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muta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tribu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socia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and without mem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verti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usa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unit step response of an LTI sys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6B127-F0FC-4B7B-84E4-FD6172A1170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e e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9A44D-CD5B-4D0D-A89E-C95556A7EFA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presentation of LTI system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y linear time-invariant system (LTI) system, continuous-time or discrete-time, can be uniquely characterized by 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ulse response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esponse of system to an impul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equency respons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response of system to a complex exponential e 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j 2 </a:t>
            </a:r>
            <a:r>
              <a:rPr b="0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or all possible frequencies f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nsfer func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Laplace transform of impulse respon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iven one of the three, we can find other two provided that they ex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B2CA4-557B-421C-A50D-54F1DB09EA6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ignificance of unit impuls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very signal whether large or small can be represented in terms of linear combination of delayed impuls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re two properties apply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ne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ime Invari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DC413-B7AF-4D96-850E-50073B5C503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asic building Block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24382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DT or CT case; there are two natural choices for these two basic building bloc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DT: Shifted unit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CT: Shifted unit impuls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0DD84-9122-4ABB-A5CF-009D7D363B4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volution Sum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fact together with the property of superposition and time invariance, will allow us to develop a complete characterization of any LTI system in terms of responses to a unit impuls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representation is calle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volution sum in discrete time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volution integral in continuous time cas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4282B-F07E-4B08-ADE8-FC6727F2406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mpulse Respons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response of a discrete-time system to a unit sample sequence {</a:t>
            </a:r>
            <a:r>
              <a:rPr b="0" i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]} is called th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nit sample respons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r simply, th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mpulse respons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and is denoted by {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]}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response of a discrete-time system to a unit step sequence {</a:t>
            </a:r>
            <a:r>
              <a:rPr b="0" i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]} is called th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ni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tep respons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r simply, th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tep respons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and is denoted by {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]}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4:28:35Z</dcterms:created>
  <dc:creator>Sana Ullah Qaisar</dc:creator>
  <dc:description/>
  <dc:language>en-US</dc:language>
  <cp:lastModifiedBy>HP</cp:lastModifiedBy>
  <dcterms:modified xsi:type="dcterms:W3CDTF">2016-03-30T05:51:08Z</dcterms:modified>
  <cp:revision>97</cp:revision>
  <dc:subject/>
  <dc:title>Signals and Systems</dc:title>
</cp:coreProperties>
</file>