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480-6D1F-4554-9B95-80AB6EF3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1B1-0EE3-4A8E-B017-146BE013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5C8B-A199-426F-B66C-7C24F53D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EAE-53B9-48AB-B0F1-2E6FADC5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C88-EB68-48B8-94E1-014F3294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961-67D2-4877-858C-F9B3817F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78E-CD43-4BCA-A90E-0F309C30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7B28-710A-45D5-BE3B-5CBC4E8C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BD9-7CCA-4DBF-B393-CF7FCD22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3DC-00A6-42B5-BE5D-57FDC294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DF1-43ED-4822-B58E-40BDEDB5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BE1-2CB8-46F1-B629-70CCB220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B40F-1D00-40AE-8E19-CB7BA813F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pplications of Signals and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JPE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3K                13K                   3.5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PEG uses Discrete-Cosine Transform (similar to Fourier Trans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:\Documents and Settings\aviyente\My Documents\My Pictures\duck1.jpg"/>
          <p:cNvPicPr/>
          <p:nvPr/>
        </p:nvPicPr>
        <p:blipFill>
          <a:blip r:embed="rId1"/>
          <a:stretch/>
        </p:blipFill>
        <p:spPr>
          <a:xfrm>
            <a:off x="685800" y="2819520"/>
            <a:ext cx="2540160" cy="176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aviyente\My Documents\My Pictures\duck2.jpg"/>
          <p:cNvPicPr/>
          <p:nvPr/>
        </p:nvPicPr>
        <p:blipFill>
          <a:blip r:embed="rId2"/>
          <a:stretch/>
        </p:blipFill>
        <p:spPr>
          <a:xfrm>
            <a:off x="3276720" y="2819520"/>
            <a:ext cx="2539800" cy="1765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Documents and Settings\aviyente\My Documents\My Pictures\duck3.jpg"/>
          <p:cNvPicPr/>
          <p:nvPr/>
        </p:nvPicPr>
        <p:blipFill>
          <a:blip r:embed="rId3"/>
          <a:stretch/>
        </p:blipFill>
        <p:spPr>
          <a:xfrm>
            <a:off x="5867280" y="2819520"/>
            <a:ext cx="254016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iological Sign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rain signals (EE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rdiac signals (EC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dical images (x-ray, PET, M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oal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tect abnormal activity (heart attack, seiz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lp physicians with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ols: Filtering, Fourier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in waves are usually contaminated by noise and hard to interpr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2668680" cy="175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2668680" cy="2001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4876920" y="2971800"/>
            <a:ext cx="2668320" cy="1676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66832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iometr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dentifying a person using physiological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ngerprint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ace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oice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udio Signal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ctive noise cancellation:Adaptive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adphones used in cockp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gital Audio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dd special music effects such as delay, echo, re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dio signal 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parate speech from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ind sound from music in c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ilter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667240" cy="1936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2668680" cy="2001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4419720" y="4267080"/>
            <a:ext cx="2668320" cy="2001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4419720" y="1905120"/>
            <a:ext cx="2668320" cy="200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5"/>
          <a:stretch/>
        </p:blipFill>
        <p:spPr>
          <a:xfrm>
            <a:off x="259092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6"/>
          <a:stretch/>
        </p:blipFill>
        <p:spPr>
          <a:xfrm>
            <a:off x="6324480" y="441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63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174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pplication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gna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ntrol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dustrial control and automation (Control the velocity or position of an obj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ing the position of a valve or shaft of a mo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mportant Tool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ime-domain solution of differential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ransfer function (Laplace Transfo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mmunicatio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nsmission of information (signal) over a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channel may be free space, coaxial cable, fiber optic 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key component of transmission: Modulation (Analog and Digital Commun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od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alog Modulation: Transmitting audio sig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vantage: Higher frequency range 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ood propa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5" descr="C:\Documents and Settings\aviyente\My Documents\Corel User Files\ece360-1.wmf"/>
          <p:cNvPicPr/>
          <p:nvPr/>
        </p:nvPicPr>
        <p:blipFill>
          <a:blip r:embed="rId1"/>
          <a:stretch/>
        </p:blipFill>
        <p:spPr>
          <a:xfrm>
            <a:off x="2209680" y="3124080"/>
            <a:ext cx="3657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od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equency Modulation (FM), modulate the angle of the carri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vantage: More robust to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34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gital Mod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sed in CDs, digital cellular service, digital phone lines and computer mod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vantag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n be encry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lectronic routing of data is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gital storage 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ultimedia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ignal Processing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ignal processing=Application of algorithms to modify signals in a way to make them more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fficient and reliable transmission, storage and display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formation extraction and enhan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eech and audio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ltimedia processing (image and vid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derwater acou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ological sign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ultimedia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ression: Fast, efficient, reliable transmission and storage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plied on audio, image and video data for transmission over the Internet,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s: CDs, DVDs, MP3, MPEG4, 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hematical Tools: Fourier Transform, Quantization, Mod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1:58:35Z</dcterms:created>
  <dc:creator> </dc:creator>
  <dc:description/>
  <dc:language>en-US</dc:language>
  <cp:lastModifiedBy>HP</cp:lastModifiedBy>
  <dcterms:modified xsi:type="dcterms:W3CDTF">2017-05-04T05:23:02Z</dcterms:modified>
  <cp:revision>18</cp:revision>
  <dc:subject/>
  <dc:title>Applications of Signals and Systems</dc:title>
</cp:coreProperties>
</file>