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3094-FD5F-426F-A294-ED44855B4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176-F72D-4D0F-B183-AAC04E16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6FF-D69D-4078-B028-3BFEEE5CC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4654-B3F3-4DB2-B860-1FF82571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DE7-A1A7-4FD2-BB90-72954FEB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7809-3C40-4B34-AADB-C765A07B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D842-5429-4344-A37A-E42261C8B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96ED-9068-4DA3-BA85-23975945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9FA-94EB-417B-AB4D-7A6634AD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74A-B41E-43F4-878A-0AE616AD6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FED7-707C-4E07-8B29-0907E3E9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D5B0-F57D-4FD6-ACE3-65099B7D6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84E3-B194-43E7-91FF-FCBB54BF9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DF75-AFC0-4BB9-A3F5-DDC52F4F2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9FC-F5BC-4A63-8191-1E819898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CD8-D97D-46E6-8502-E06BB6FB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587-63EE-40C1-9F91-C3B5CDCF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702-FCEF-433B-A1D9-DD72DE8E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E21-491C-4581-903D-3E129B16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6E8-E287-4D93-ABF2-48020E1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636-6D39-4CD9-BF8F-7830CD4D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58D-7664-490D-897F-C2D6FD19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7DE-B3B0-473B-802C-45A9AE09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56A-01FB-4965-A356-E7F7C8F8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0E6-0F6C-4210-BDF5-46D41284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67C-3CFA-4BBC-B36C-D237AF69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8263-2790-4073-87CE-B572D74B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s an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2F68-8F4A-4A86-9F35-6773933D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l systems are hybri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oth CT and D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udio dela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0880" y="4038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80880" y="4002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143000" y="3809880"/>
            <a:ext cx="83808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084320" y="38098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575080" y="3809880"/>
            <a:ext cx="83808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656440" y="39178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022640" y="3809880"/>
            <a:ext cx="838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963960" y="38098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5486400" y="3809880"/>
            <a:ext cx="83808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5567760" y="39178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6918480" y="3809880"/>
            <a:ext cx="83808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9440" y="38098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1981080" y="411480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609480" y="38098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8381880" y="3962520"/>
            <a:ext cx="76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 flipV="1">
            <a:off x="8458200" y="3809880"/>
            <a:ext cx="228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8458200" y="4267080"/>
            <a:ext cx="228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8686800" y="38098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429000" y="4114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6324480" y="411480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533520" y="4114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7772400" y="4114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2057400" y="38098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3505320" y="380988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4952880" y="38098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6400800" y="38098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7848720" y="380988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1065960" y="44956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9"/>
          <p:cNvSpPr/>
          <p:nvPr/>
        </p:nvSpPr>
        <p:spPr>
          <a:xfrm>
            <a:off x="2438280" y="4511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 to 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0"/>
          <p:cNvSpPr/>
          <p:nvPr/>
        </p:nvSpPr>
        <p:spPr>
          <a:xfrm>
            <a:off x="3983040" y="44956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5334120" y="44956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-to-Analog 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 to 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6703920" y="4495680"/>
            <a:ext cx="148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Smoothing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036-8881-42E5-93D7-71179750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o Delay Syste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7"/>
          <p:cNvSpPr/>
          <p:nvPr/>
        </p:nvSpPr>
        <p:spPr>
          <a:xfrm>
            <a:off x="380880" y="19051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80880" y="1868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>
            <a:off x="1143000" y="1676520"/>
            <a:ext cx="83808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084320" y="1676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1"/>
          <p:cNvSpPr/>
          <p:nvPr/>
        </p:nvSpPr>
        <p:spPr>
          <a:xfrm>
            <a:off x="2575080" y="1676520"/>
            <a:ext cx="83808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656440" y="1784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3"/>
          <p:cNvSpPr/>
          <p:nvPr/>
        </p:nvSpPr>
        <p:spPr>
          <a:xfrm>
            <a:off x="4022640" y="1676520"/>
            <a:ext cx="83844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3963960" y="1676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5"/>
          <p:cNvSpPr/>
          <p:nvPr/>
        </p:nvSpPr>
        <p:spPr>
          <a:xfrm>
            <a:off x="5486400" y="1676520"/>
            <a:ext cx="83808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5567760" y="1784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6918480" y="1676520"/>
            <a:ext cx="83808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6859440" y="1676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>
            <a:off x="1981080" y="19810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609480" y="16765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1"/>
          <p:cNvSpPr/>
          <p:nvPr/>
        </p:nvSpPr>
        <p:spPr>
          <a:xfrm>
            <a:off x="8381880" y="1828800"/>
            <a:ext cx="763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 flipV="1">
            <a:off x="8458200" y="167616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3"/>
          <p:cNvSpPr/>
          <p:nvPr/>
        </p:nvSpPr>
        <p:spPr>
          <a:xfrm>
            <a:off x="8458200" y="213372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8686800" y="16765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5"/>
          <p:cNvSpPr/>
          <p:nvPr/>
        </p:nvSpPr>
        <p:spPr>
          <a:xfrm>
            <a:off x="3429000" y="1981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4876920" y="1981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>
            <a:off x="6324480" y="19810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>
            <a:off x="533520" y="1981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7772400" y="1981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2057400" y="16765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3505320" y="167652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4952880" y="167652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400800" y="16765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7848720" y="167652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1065960" y="23623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2438280" y="2378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 to 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3983040" y="2362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5334120" y="23623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-to-Analog 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 to 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6703920" y="2362320"/>
            <a:ext cx="148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Smoothing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70"/>
          <p:cNvGraphicFramePr/>
          <p:nvPr/>
        </p:nvGraphicFramePr>
        <p:xfrm>
          <a:off x="152280" y="3276720"/>
          <a:ext cx="2952720" cy="15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76720"/>
                    <a:ext cx="295272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71"/>
          <p:cNvGraphicFramePr/>
          <p:nvPr/>
        </p:nvGraphicFramePr>
        <p:xfrm>
          <a:off x="3048120" y="3276720"/>
          <a:ext cx="2952720" cy="15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276720"/>
                    <a:ext cx="295272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73"/>
          <p:cNvGraphicFramePr/>
          <p:nvPr/>
        </p:nvGraphicFramePr>
        <p:xfrm>
          <a:off x="152280" y="5105520"/>
          <a:ext cx="2952720" cy="155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Object 7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105520"/>
                    <a:ext cx="295272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4"/>
          <p:cNvGraphicFramePr/>
          <p:nvPr/>
        </p:nvGraphicFramePr>
        <p:xfrm>
          <a:off x="3048120" y="5105520"/>
          <a:ext cx="2952720" cy="155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5105520"/>
                    <a:ext cx="295272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75"/>
          <p:cNvGraphicFramePr/>
          <p:nvPr/>
        </p:nvGraphicFramePr>
        <p:xfrm>
          <a:off x="6019920" y="5105520"/>
          <a:ext cx="2952720" cy="155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Object 7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5105520"/>
                    <a:ext cx="295272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77"/>
          <p:cNvGrpSpPr/>
          <p:nvPr/>
        </p:nvGrpSpPr>
        <p:grpSpPr>
          <a:xfrm>
            <a:off x="6019920" y="3200400"/>
            <a:ext cx="2987640" cy="1628640"/>
            <a:chOff x="6019920" y="3200400"/>
            <a:chExt cx="2987640" cy="1628640"/>
          </a:xfrm>
        </p:grpSpPr>
        <p:graphicFrame>
          <p:nvGraphicFramePr>
            <p:cNvPr id="175" name="Object 72"/>
            <p:cNvGraphicFramePr/>
            <p:nvPr/>
          </p:nvGraphicFramePr>
          <p:xfrm>
            <a:off x="6019920" y="3276720"/>
            <a:ext cx="2952720" cy="1552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7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19920" y="3276720"/>
                      <a:ext cx="2952720" cy="15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76"/>
            <p:cNvSpPr/>
            <p:nvPr/>
          </p:nvSpPr>
          <p:spPr>
            <a:xfrm>
              <a:off x="7391520" y="3200400"/>
              <a:ext cx="1616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mple at a constant rate (time perio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9234-26AE-4D65-8F28-32075AED4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Useabl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syste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n I/O relationship tha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dic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/O relationship must be the same every time … the same today as it was yesterday and will be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 Invar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ny type of input, the output follows a reasonabl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s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457200" y="3962520"/>
          <a:ext cx="30099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0099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1800360" y="4908600"/>
          <a:ext cx="200952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360" y="4908600"/>
                    <a:ext cx="20095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1657440" y="4775040"/>
          <a:ext cx="2533680" cy="203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57440" y="4775040"/>
                    <a:ext cx="2533680" cy="20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1"/>
          <p:cNvGraphicFramePr/>
          <p:nvPr/>
        </p:nvGraphicFramePr>
        <p:xfrm>
          <a:off x="6019920" y="4572000"/>
          <a:ext cx="2523960" cy="22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572000"/>
                    <a:ext cx="252396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12"/>
          <p:cNvSpPr/>
          <p:nvPr/>
        </p:nvSpPr>
        <p:spPr>
          <a:xfrm>
            <a:off x="1831680" y="3809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4"/>
          <p:cNvGrpSpPr/>
          <p:nvPr/>
        </p:nvGrpSpPr>
        <p:grpSpPr>
          <a:xfrm>
            <a:off x="4800600" y="3809880"/>
            <a:ext cx="3009960" cy="2190960"/>
            <a:chOff x="4800600" y="3809880"/>
            <a:chExt cx="3009960" cy="2190960"/>
          </a:xfrm>
        </p:grpSpPr>
        <p:graphicFrame>
          <p:nvGraphicFramePr>
            <p:cNvPr id="191" name="Object 9"/>
            <p:cNvGraphicFramePr/>
            <p:nvPr/>
          </p:nvGraphicFramePr>
          <p:xfrm>
            <a:off x="4800600" y="3962520"/>
            <a:ext cx="3009960" cy="2038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00600" y="3962520"/>
                      <a:ext cx="3009960" cy="20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Text Box 13"/>
            <p:cNvSpPr/>
            <p:nvPr/>
          </p:nvSpPr>
          <p:spPr>
            <a:xfrm>
              <a:off x="6023520" y="380988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nlin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897-D70B-4AB7-9BCB-B03E01278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TI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ngineering systems are designed to be linear and time invariant (LTI) so that they are 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of this course focuses on LTI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E48-5B6F-4C4B-9572-2B1F7E4D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y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it evolves in time is what encodes th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ge or current in an electronic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 a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480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electric signals (e.g. EC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2B06-D783-4DB0-B985-ED53EB321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1080" y="3123720"/>
            <a:ext cx="5181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-time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-time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1DE6-9D2F-4476-B176-DE196F0C3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Continuous-Time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that has a value for all points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as x(t) because the signal “x” is a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found in the physic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Human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ed graphically as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3105000" y="4495680"/>
          <a:ext cx="293400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5000" y="4495680"/>
                    <a:ext cx="293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DCC7-F3FE-4E4D-9A71-A984AC8D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Discrete-Time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that has a value for only specific points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formed by “sampling” a continuous-tim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the value of the original waveform at specific intervals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of the sample value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s x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called a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ly found in the digit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wav file or 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ed graphically as individua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a “stem” 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2819520" y="4648320"/>
          <a:ext cx="297180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648320"/>
                    <a:ext cx="29718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5"/>
          <p:cNvSpPr/>
          <p:nvPr/>
        </p:nvSpPr>
        <p:spPr>
          <a:xfrm>
            <a:off x="6231240" y="572616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409720" y="59436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7714-E71B-4491-B3A0-47EC22C1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-Tim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-time sequences are continuous in values, but discrete only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signals are discrete in values and discrete in time (they can only take on specific val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7B4D-39C5-4DB3-A7B7-FE183378D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items that together performs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s / transforms an input to give an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038480" y="3809880"/>
            <a:ext cx="99072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040280" y="38862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{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3352680" y="4191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5029200" y="4191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839680" y="3998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842080" y="39895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T{x(t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7"/>
          <p:cNvGrpSpPr/>
          <p:nvPr/>
        </p:nvGrpSpPr>
        <p:grpSpPr>
          <a:xfrm>
            <a:off x="763560" y="5181480"/>
            <a:ext cx="7145640" cy="1295640"/>
            <a:chOff x="763560" y="5181480"/>
            <a:chExt cx="7145640" cy="1295640"/>
          </a:xfrm>
        </p:grpSpPr>
        <p:sp>
          <p:nvSpPr>
            <p:cNvPr id="80" name="Rectangle 10"/>
            <p:cNvSpPr/>
            <p:nvPr/>
          </p:nvSpPr>
          <p:spPr>
            <a:xfrm>
              <a:off x="4038480" y="5715000"/>
              <a:ext cx="99072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1"/>
            <p:cNvSpPr/>
            <p:nvPr/>
          </p:nvSpPr>
          <p:spPr>
            <a:xfrm>
              <a:off x="4005720" y="5911920"/>
              <a:ext cx="104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= input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3352680" y="60958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5029200" y="60958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2839680" y="5904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5846400" y="5894280"/>
              <a:ext cx="206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(t) = T{x(t)} = 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763560" y="5181480"/>
              <a:ext cx="31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. A squaring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1ED3-A90B-4119-9A4F-43744AD8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Examples of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eering wheel, force on accelerometer and br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 of car,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echanical systems (mo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, stock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processes (he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018B-B32E-49D8-9C30-64989398B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-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on continuous-time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ly found in the physic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ed mathematically using differenti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arameters are defined on a continuum of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-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on discrete-time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Computer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ed mathematically by difference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arameters are defined only at discrete points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2:52:11Z</dcterms:created>
  <dc:creator> </dc:creator>
  <dc:description/>
  <dc:language>en-US</dc:language>
  <cp:lastModifiedBy>HP</cp:lastModifiedBy>
  <dcterms:modified xsi:type="dcterms:W3CDTF">2017-05-04T05:22:24Z</dcterms:modified>
  <cp:revision>14</cp:revision>
  <dc:subject/>
  <dc:title>Introduction to  Signals and Systems</dc:title>
</cp:coreProperties>
</file>