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B3D-0A45-4149-838D-39A40839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4FC-C9AE-45C1-9ED7-AD1A755A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6D3-0B40-4AE4-BD46-E3696B23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6E8-19CC-4428-9105-0A28D1AF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DD92-05DB-4D85-948F-74546CEF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D649-D281-47CD-A174-EB56B91F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FC61-70F0-46AB-B5F7-8F92F24A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6A27-5D74-4964-A4D5-D29AE287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9497-9248-4805-BB2E-56BACF7B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0BA5-5C58-43F7-B51F-60F1C888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3064-42F2-4C33-9D51-33772D1E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3C8-D305-458F-B5A5-B8A58D20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96C7-4F27-4F52-A989-FCCF732B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1D53-0D33-4371-A32B-71EAFC1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F6D7-8313-442C-B985-F3890609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3162-F756-4512-B3F6-2BA79C20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71D0-C5BB-4CC4-8B1C-F968B86F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055-8C33-441F-9AD0-5CC23681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80A-FEA7-445F-9E86-9E8A8949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35C-45D6-41B1-A911-A66535DB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2F2-E7E9-448D-B344-B99A0DE0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D5C-F2CF-409F-9C11-46605514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CDF-2D2D-4354-A27F-A957CDEA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EE8-CFC0-4809-B1C8-ABBBA24A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CA03-9E57-462D-BDE2-E6B7400F8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079D-9FE5-430B-9E1B-6C8D93E82D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ffffff"/>
                </a:solidFill>
                <a:latin typeface="Arial"/>
              </a:rPr>
              <a:t>Scripting Languag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S 351 – Programming Paradig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ffffff"/>
                </a:solidFill>
                <a:latin typeface="Arial"/>
              </a:rPr>
              <a:t>1 – Batch and Interactive U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erl has a JIT compiler that reads the entire program before exec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ther languages are quite happy to only execute a line as soon as it has been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ython, Tcl and Ruby will also accept commands from the key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ffffff"/>
                </a:solidFill>
                <a:latin typeface="Arial"/>
              </a:rPr>
              <a:t>2 – Economy of Exp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o support rapid development and interactive use, scripting languages require very little boilerplat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is can be illustrated very clearly by the following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public static void main(String args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System.out.println(“Hello!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print “Hello!\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example is reading a file word by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raditional programming languages are concerned with building a self contained environment that receives input and produces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ost ``real-world’’ computing however involves the use of </a:t>
            </a:r>
            <a:r>
              <a:rPr b="0" i="1" lang="en-IE" sz="20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pr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magine a system that stores a list of numbers in a txt file, 1 per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ach number must be passed to a database as a parameter for an SQL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ach query returns a string representing an OS command that must be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is the best way of achieving this scenar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ffffff"/>
                </a:solidFill>
                <a:latin typeface="Arial"/>
              </a:rPr>
              <a:t>Option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 could write all of this as a Java pro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ublic int getNumFromFile 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eturn Integer.parseInt(BufferedReader.readLine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ublic String executeSQL ( int c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eturn SQL(“select command from table where command = ”+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ublic void executeCommand ( String command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untime.exec(comman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ffffff"/>
                </a:solidFill>
                <a:latin typeface="Arial"/>
              </a:rPr>
              <a:t>Option 1 cont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are the drawbacks of this appro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anguages such as Java stress efficiency, portability and maintain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eir type systems are based upon hardware-level conce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amples of this include: fixed sized integers, floating point numbers, characters and arr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o how can we re-write th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rough the use of a scripting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ffffff"/>
                </a:solidFill>
                <a:latin typeface="Arial"/>
              </a:rPr>
              <a:t>Scripting Langua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cripting languages stress </a:t>
            </a:r>
            <a:r>
              <a:rPr b="0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flexibility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rapid developm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nd dynamic che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ir type systems embrace very high level concepts such as tables, patterns, lists and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re a number of distinct groups that fall under the scripting language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anguages such as Perl and Python are known as ``glue’’ languages because they were designed to glue existing program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re are other extensible types of scripting languages used in the WWW al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ffffff"/>
                </a:solidFill>
                <a:latin typeface="Arial"/>
              </a:rPr>
              <a:t>Option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sider the first problem ag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ead –r  var1 &lt; command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hile $var1 –ne “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cho “select command from table where command =“$var1 &gt; query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ysql &lt; query.txt &gt;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ead –r var2 &lt;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xec $va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read –r var1 &lt; command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sing a simple bash script we can solve the whole problem in less than 10 lines!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* May not be exactly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ffffff"/>
                </a:solidFill>
                <a:latin typeface="Arial"/>
              </a:rPr>
              <a:t>What exactly is a scripting languag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cripting languages descend from two main types of ances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first set of scripting languages are those designed to execute terminal commands in batch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xamples of this are bash scripts and ``.bat’’ files for MS-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other type of scripting languages are those designed for text-processing and report 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xamples of these include the very useful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wk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rom these two languages grew Per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ome other general purpose scripting languages about include Tcl, Ruby, Python, and VB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ffffff"/>
                </a:solidFill>
                <a:latin typeface="Arial"/>
              </a:rPr>
              <a:t>Scripting and the WW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 the early-mid nineties, Perl was adopted to become the language of choice for server-side 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ne guy kept a lot of handy Perl scripts to track access to his home page. These scripts eventually morphed into the a fully fledged independent language known as PH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is is the most popular server side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ther competitors to PHP include JSP and VB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client side processing, there is Javascript, a very watered down version of Java created by Netscape 10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ffffff"/>
                </a:solidFill>
                <a:latin typeface="Arial"/>
              </a:rPr>
              <a:t>Common Characteristics of Scripting language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oth Batch and Interactive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conomy of Ex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ack of declarations; simple scop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lexible dynamic ty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asy access to other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ophisticated Pattern mat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igh-level data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10:31Z</dcterms:created>
  <dc:creator>GIT</dc:creator>
  <dc:description/>
  <dc:language>en-US</dc:language>
  <cp:lastModifiedBy>GIT</cp:lastModifiedBy>
  <dcterms:modified xsi:type="dcterms:W3CDTF">2006-11-22T15:11:14Z</dcterms:modified>
  <cp:revision>16</cp:revision>
  <dc:subject/>
  <dc:title>Scripting Languages</dc:title>
</cp:coreProperties>
</file>