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196-87A4-4C0B-977C-2D5D40C6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E0C-D683-4264-81C0-6F85F37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57B-A609-4AB2-8627-BE82EBCE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1F6-C5AA-462A-8FBC-E728310C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F0-4841-4397-949F-A215EBA7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428-F173-425B-A0B7-081EB407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E6C-C250-448E-952B-F7E5F7DF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A7F-FBE7-4FFE-BE5A-5ABA5C8A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771-32C3-490C-9813-FDCAB975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391-1F75-4C53-AFB9-1629CC0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EB8-2535-47AA-BA54-F63CF8E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C67-55CC-47E8-B86D-426A8DB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E930-F80E-44F9-8BA0-7EC795D462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E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and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History of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rst compi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developed between 1954 and 1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TRAN language and its compiler by a team at IBM led by John Back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natural language was studied at about the same time by Noam Chom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History of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ories and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1960s and 197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lass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anguage: Chomsky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ar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lem was pursu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-free language, parsing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mbolic methods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 the structure of the words of a programming langu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ite automata, Regular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have been developed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icient object co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tion techniques or code, improvement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History of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were develope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omate the comp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elopment for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generato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 Yacc by Steve Johnson in 1975 for the Uni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 genera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 Lex by Mike Lesk for Unix system about same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History of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s focused 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om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genera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ther p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generation was undertaken during the late 1970s and early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ccess due to our less than perfect understanding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History of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cent adva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ompile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phisticated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nferring and/or simplifying the information contained in pro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 the unification algorithm of Hindley-Milner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-based Interactive Development Environ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D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includes editors, linkers, debuggers, and project manag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basic of compiler design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 in the last 2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812000" y="623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Programs related to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ec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ource progra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generating objec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BASIC, LISP, used often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ducational or 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 of execution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compiled code by a factor of 10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of their operations with compi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mb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lator for the assembly language of a particular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y language is a symbolic form of  one 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r may generate assembly language as its target language and an assembler finished the translation into objec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separate object fil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direct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ecutabl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an object program to the code f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ndard library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o resource supplied by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ing one of the principle activities of a compil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pends on OS an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sol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re-locatab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ve to a give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executable cod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 of the operating enviro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arely as an actual separat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-FREE GRMMARS AND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roces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ents, include other files, and perform macr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b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by a language (as in C) or can be later add-ons that provid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ditional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have be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ndled together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itor and other programs into an interactive development environment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iented toward the format or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gramming language, called structure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include some operations of a compil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orming som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term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ecu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compil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eep tra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ost or all of the source cod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t execution at pre-specified locations call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eak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supplie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mbolic 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the compil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tistics on the behav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object program during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Times for each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age of execu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execution speed of the pro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the files being worked on by different people, mainta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herent version of 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-independent or bundled together with a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pular project manager programs on Unix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urce code contro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vision contro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812000" y="623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The Transl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hases of a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 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Code 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uxiliary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hases of a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>
            <a:hlinkClick r:id="" action="ppaction://hlinkshowjump?jump=nextslide"/>
          </p:cNvPr>
          <p:cNvSpPr/>
          <p:nvPr/>
        </p:nvSpPr>
        <p:spPr>
          <a:xfrm>
            <a:off x="1187280" y="1989000"/>
            <a:ext cx="2087640" cy="2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87280" y="2708280"/>
            <a:ext cx="2087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187280" y="3500280"/>
            <a:ext cx="2087640" cy="2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s Analy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187280" y="4292640"/>
            <a:ext cx="2087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Code Optim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187280" y="5157720"/>
            <a:ext cx="2087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187280" y="5950080"/>
            <a:ext cx="2087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Code Optim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443640" y="2421000"/>
            <a:ext cx="122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443640" y="3500280"/>
            <a:ext cx="122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443640" y="4653000"/>
            <a:ext cx="122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195640" y="16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195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19564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19564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219564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19564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195640" y="623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3276720" y="2133720"/>
            <a:ext cx="1871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3276720" y="2852640"/>
            <a:ext cx="1871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3276720" y="3645000"/>
            <a:ext cx="18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3"/>
          <p:cNvSpPr/>
          <p:nvPr/>
        </p:nvSpPr>
        <p:spPr>
          <a:xfrm flipV="1">
            <a:off x="3276720" y="3933720"/>
            <a:ext cx="1871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4"/>
          <p:cNvSpPr/>
          <p:nvPr/>
        </p:nvSpPr>
        <p:spPr>
          <a:xfrm flipV="1">
            <a:off x="3276720" y="3933360"/>
            <a:ext cx="187164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5"/>
          <p:cNvSpPr/>
          <p:nvPr/>
        </p:nvSpPr>
        <p:spPr>
          <a:xfrm flipV="1">
            <a:off x="3276720" y="3933720"/>
            <a:ext cx="187164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6"/>
          <p:cNvSpPr/>
          <p:nvPr/>
        </p:nvSpPr>
        <p:spPr>
          <a:xfrm flipV="1">
            <a:off x="5148360" y="2852280"/>
            <a:ext cx="1295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5148360" y="39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5148360" y="3933720"/>
            <a:ext cx="12952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826920" y="16286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682560" y="30686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539640" y="38606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notated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324000" y="4653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755640" y="5516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755640" y="6381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682560" y="23493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xical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t collects sequences of characters into meaningful units called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:  a[index]=4+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ft br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br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us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ther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t may enter literals into the litera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380360" y="63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ntax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t determines the structure of th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s of syntax analysis are a parse tree or a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: a[index]=4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s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ax tree ( abstract syntax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ok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编译原理及实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美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eth C. Loud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著，冯博琴、冯岚等译，机械工业出版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编译程序原理与技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赣生、王华民编著，清华大学出版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编译原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美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fred V. Ah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著，李建中、姜守旭等译，机械工业出版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rs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50"/>
          <p:cNvGrpSpPr/>
          <p:nvPr/>
        </p:nvGrpSpPr>
        <p:grpSpPr>
          <a:xfrm>
            <a:off x="1187280" y="1916280"/>
            <a:ext cx="7128000" cy="4178160"/>
            <a:chOff x="1187280" y="1916280"/>
            <a:chExt cx="7128000" cy="4178160"/>
          </a:xfrm>
        </p:grpSpPr>
        <p:sp>
          <p:nvSpPr>
            <p:cNvPr id="142" name="Rectangle 26"/>
            <p:cNvSpPr/>
            <p:nvPr/>
          </p:nvSpPr>
          <p:spPr>
            <a:xfrm>
              <a:off x="1187280" y="5805360"/>
              <a:ext cx="7056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                                  index                                        4                           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1187280" y="5445000"/>
              <a:ext cx="7056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dentifier                          identifier                             number                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187280" y="479592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ression        [      expression      ]                  expression        +        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1258920" y="4076640"/>
              <a:ext cx="705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cript-expression                                   additive-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187280" y="328464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ression                    =                       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187280" y="256392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-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1187280" y="191628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643280" y="220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H="1">
              <a:off x="3276720" y="2852640"/>
              <a:ext cx="1295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716360" y="28526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859280" y="2852640"/>
              <a:ext cx="1297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3059280" y="3573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2050560" y="4365720"/>
              <a:ext cx="792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2916360" y="4365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2987640" y="436572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3348000" y="4365720"/>
              <a:ext cx="863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6227640" y="3645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 flipH="1">
              <a:off x="5867280" y="4365720"/>
              <a:ext cx="4334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6588000" y="4365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7020000" y="43657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6"/>
            <p:cNvSpPr/>
            <p:nvPr/>
          </p:nvSpPr>
          <p:spPr>
            <a:xfrm>
              <a:off x="1763640" y="5157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7"/>
            <p:cNvSpPr/>
            <p:nvPr/>
          </p:nvSpPr>
          <p:spPr>
            <a:xfrm>
              <a:off x="3564000" y="515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8"/>
            <p:cNvSpPr/>
            <p:nvPr/>
          </p:nvSpPr>
          <p:spPr>
            <a:xfrm>
              <a:off x="5867280" y="508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9"/>
            <p:cNvSpPr/>
            <p:nvPr/>
          </p:nvSpPr>
          <p:spPr>
            <a:xfrm>
              <a:off x="7451640" y="5157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yntax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6"/>
          <p:cNvGrpSpPr/>
          <p:nvPr/>
        </p:nvGrpSpPr>
        <p:grpSpPr>
          <a:xfrm>
            <a:off x="1187280" y="2133720"/>
            <a:ext cx="7056720" cy="3530520"/>
            <a:chOff x="1187280" y="2133720"/>
            <a:chExt cx="7056720" cy="3530520"/>
          </a:xfrm>
        </p:grpSpPr>
        <p:sp>
          <p:nvSpPr>
            <p:cNvPr id="168" name="Rectangle 3"/>
            <p:cNvSpPr/>
            <p:nvPr/>
          </p:nvSpPr>
          <p:spPr>
            <a:xfrm>
              <a:off x="1187280" y="5375160"/>
              <a:ext cx="7056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                                  index                                        4                           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187280" y="4727520"/>
              <a:ext cx="705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fier                identifier                    number               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187280" y="3359160"/>
              <a:ext cx="705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cript-expression                                   additive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1187280" y="2133720"/>
              <a:ext cx="7056720" cy="57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ign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 flipH="1">
              <a:off x="2556000" y="2638440"/>
              <a:ext cx="2016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>
              <a:off x="4716360" y="263844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 flipH="1">
              <a:off x="1763640" y="3862440"/>
              <a:ext cx="5047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916360" y="3862440"/>
              <a:ext cx="7189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 flipH="1">
              <a:off x="5796000" y="3935520"/>
              <a:ext cx="936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7020000" y="3935520"/>
              <a:ext cx="647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 Box 17"/>
          <p:cNvSpPr/>
          <p:nvPr/>
        </p:nvSpPr>
        <p:spPr>
          <a:xfrm>
            <a:off x="7380360" y="63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mantics of a program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an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opposed to its syntax, or structure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some of its running time behaviors prior to exec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mantics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cla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extra pieces of information computed by semantic analy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: a[index]=4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tax tree annotated with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notated Syntax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6"/>
          <p:cNvGrpSpPr/>
          <p:nvPr/>
        </p:nvGrpSpPr>
        <p:grpSpPr>
          <a:xfrm>
            <a:off x="1187280" y="1989000"/>
            <a:ext cx="7056720" cy="3889080"/>
            <a:chOff x="1187280" y="1989000"/>
            <a:chExt cx="7056720" cy="3889080"/>
          </a:xfrm>
        </p:grpSpPr>
        <p:sp>
          <p:nvSpPr>
            <p:cNvPr id="183" name="Rectangle 5"/>
            <p:cNvSpPr/>
            <p:nvPr/>
          </p:nvSpPr>
          <p:spPr>
            <a:xfrm>
              <a:off x="1187280" y="5230440"/>
              <a:ext cx="7056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                                  index                                        4                           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1187280" y="4582800"/>
              <a:ext cx="705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fier                identifier                    number               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187280" y="3214440"/>
              <a:ext cx="7056720" cy="86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cript-expression                                   additive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ger                                                     inte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187280" y="1989000"/>
              <a:ext cx="7056720" cy="57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ign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 flipH="1">
              <a:off x="2556000" y="2493720"/>
              <a:ext cx="2016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716360" y="249372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 flipH="1">
              <a:off x="1763280" y="4147920"/>
              <a:ext cx="36036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3203640" y="4076280"/>
              <a:ext cx="431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 flipH="1">
              <a:off x="5795640" y="4076280"/>
              <a:ext cx="647640" cy="5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7164360" y="4076280"/>
              <a:ext cx="503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1187280" y="558936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integer               integer                                 integer                        inte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Text Box 17"/>
          <p:cNvSpPr/>
          <p:nvPr/>
        </p:nvSpPr>
        <p:spPr>
          <a:xfrm>
            <a:off x="7380360" y="63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urce Code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arliest 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ost optimization steps is just after semant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improvement depend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ly on the source 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s a separat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ompilers exhibi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wide var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ptimization kinds as well as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: a[index]=4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ant fo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formed directly on annotated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ntermediate code: three-address code, p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on Annotated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1187280" y="1989000"/>
            <a:ext cx="7056720" cy="3889080"/>
            <a:chOff x="1187280" y="1989000"/>
            <a:chExt cx="7056720" cy="3889080"/>
          </a:xfrm>
        </p:grpSpPr>
        <p:sp>
          <p:nvSpPr>
            <p:cNvPr id="199" name="Rectangle 4"/>
            <p:cNvSpPr/>
            <p:nvPr/>
          </p:nvSpPr>
          <p:spPr>
            <a:xfrm>
              <a:off x="1187280" y="5230440"/>
              <a:ext cx="7056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                                  index                                        4                           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1187280" y="4582800"/>
              <a:ext cx="705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fier                identifier                    number               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1187280" y="3214440"/>
              <a:ext cx="7056720" cy="86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cript-expression                                   additive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ger                                                     inte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1187280" y="1989000"/>
              <a:ext cx="7056720" cy="57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ign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 flipH="1">
              <a:off x="2556000" y="2493720"/>
              <a:ext cx="2016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4716360" y="249372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 flipH="1">
              <a:off x="1763280" y="4147920"/>
              <a:ext cx="36036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3203640" y="4076280"/>
              <a:ext cx="431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>
              <a:off x="5795640" y="4076280"/>
              <a:ext cx="647640" cy="5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7164360" y="4076280"/>
              <a:ext cx="503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1187280" y="558936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integer               integer                                 integer                        inte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on Annotated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1187280" y="1989000"/>
            <a:ext cx="7056720" cy="3889440"/>
            <a:chOff x="1187280" y="1989000"/>
            <a:chExt cx="7056720" cy="3889440"/>
          </a:xfrm>
        </p:grpSpPr>
        <p:sp>
          <p:nvSpPr>
            <p:cNvPr id="212" name="Rectangle 5"/>
            <p:cNvSpPr/>
            <p:nvPr/>
          </p:nvSpPr>
          <p:spPr>
            <a:xfrm>
              <a:off x="1187280" y="5230800"/>
              <a:ext cx="7056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                                  index                                                                    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1187280" y="4583160"/>
              <a:ext cx="7056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fier                identifier                                            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1187280" y="3214800"/>
              <a:ext cx="7056720" cy="86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cript-expression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ger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187280" y="1989000"/>
              <a:ext cx="705672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ign-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H="1">
              <a:off x="2556000" y="2494080"/>
              <a:ext cx="2016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4716360" y="2494080"/>
              <a:ext cx="2519640" cy="22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1763280" y="4148280"/>
              <a:ext cx="36036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3203640" y="4076640"/>
              <a:ext cx="431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1187280" y="5589720"/>
              <a:ext cx="705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integer               integer                                                               inte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mization on Intermediat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484360" y="2349360"/>
            <a:ext cx="4319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=  4  +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index]=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484360" y="3716280"/>
            <a:ext cx="4319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index]=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484360" y="5300640"/>
            <a:ext cx="4319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index]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457200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50072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7380360" y="63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de Gene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he intermediate code or IR and generates code for targe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perties of the target mac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ome the major fac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ructions and repres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: a[index]=4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de 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hypothetical assembl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ossible cod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116000" y="3068640"/>
            <a:ext cx="2087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[index]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003640" y="2276640"/>
            <a:ext cx="208764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0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 R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1,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*R1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41964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380360" y="63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rget Code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mproves the target code generated by the code gen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dress m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ructions repl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ell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undant eli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36720" y="4724280"/>
            <a:ext cx="2087640" cy="17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R0,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 R0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R1,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R1,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*R1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437080" y="4724280"/>
            <a:ext cx="2087640" cy="17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R0,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L 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&amp;a[R1]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14036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812000" y="623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Major Data Structure in a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ciple Data Structure for Communication among Ph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canner collects characters into a token,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 value of an enumerated 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also preserve the string of characters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ther derived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ch as name of identifier, value of a number t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lobal variable or 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TAX 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ndar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inter-based struc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ed by 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represent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formation collect by parser or l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maybe dynamically allocated or stored in symbol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de requires different attribute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pending on kind of language struc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may be represented as variable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ciple Data Structure for Communication among Ph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information associated with identifiers: function, variable, constants, and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 almost every phase of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operation need to be constant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several hash tables are often us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TERA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s constants and strings, reducing size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insertion and lookup are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ciple Data Structure for Communication among Ph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pt as an array of text string, a temporary text, or a linked list of structures, depending on kind of intermediate code (e.g. three-address code and p-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sy for re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RY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the product of intermediate steps during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e problem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constraints or back-p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ed during code gen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812000" y="623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5 Other Issues in Compil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views from different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ing of th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jor impact of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,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ness, main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and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lys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the compiler analyzes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ute its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analysis, syntax analysis and semantics analysis, as well as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athematical and better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 of the compiler produces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nslated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generation, as well as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parts can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anged independ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 End and Back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ions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ront end depend on the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anner, parser, and semantic analyzer, as well as intermediate code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ions of the back e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end on the target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generation, as well as some optimizat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mediate representation is th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e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ommunication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ructure is important for compile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petitions to process the entire source program before generating code are referred as p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or may not correspond 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ss often consists of several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piler can be one pass, which results in efficient compilation but less efficient targe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st compil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optimization use mo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an one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ass for scanning and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ass for semantic analysis and source-level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ird Pass for code generation and target-level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i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program translates one languag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iler is a complex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0,000 to 1,000,000 lines of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s are used in many forms of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 interpreters, interfac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7"/>
          <p:cNvGrpSpPr/>
          <p:nvPr/>
        </p:nvGrpSpPr>
        <p:grpSpPr>
          <a:xfrm>
            <a:off x="1763640" y="3068640"/>
            <a:ext cx="5256000" cy="792000"/>
            <a:chOff x="1763640" y="3068640"/>
            <a:chExt cx="5256000" cy="792000"/>
          </a:xfrm>
        </p:grpSpPr>
        <p:sp>
          <p:nvSpPr>
            <p:cNvPr id="52" name="Rectangle 12"/>
            <p:cNvSpPr/>
            <p:nvPr/>
          </p:nvSpPr>
          <p:spPr>
            <a:xfrm>
              <a:off x="3780720" y="3213000"/>
              <a:ext cx="1344600" cy="43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1763640" y="3068640"/>
              <a:ext cx="9781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6041520" y="3068640"/>
              <a:ext cx="9781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2802240" y="3429000"/>
              <a:ext cx="79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5185800" y="3429000"/>
              <a:ext cx="73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Definition and compil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xical and synt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ucture of a programming l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manti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 programming language in English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reference manual, or language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Definition and compil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definition and a compiler are ofte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veloped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chniques have a major impact on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inition has a major impact on the techn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nguage to be implemented is well known and has a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isting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n easy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Definition and compil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occasionally has i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mantics given by a formal 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al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denotational semantics in function programming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mathematical proof that a compiler conforms to th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and behavior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untime environment affect the compiler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runtim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dynamic or stack-bas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-dynamic or heap-bas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er options and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chanisms for interfa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oper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and outpu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file system of the targe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tions to the 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various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of listing characte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optimizatio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(or compile-time) errors must be reported by a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meaningful error messages and resume compilation after each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hase of a compiler needs different kind of error h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extra code to perform suitable runtime tests to guarantee all such errors to cause an appropriate event during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812000" y="623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6 Bootstrapping and 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Language  for Compiler 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to execute immediat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language with existed compiler on the same target machine : (First Scena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 the new compiler with existing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language with existed compiler on different machine : (Second  Scena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produce a cross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-Diagram Describing Complex Sit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r written in language H that translates language S into language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   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-Diagram can be combined in two basic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3"/>
          <p:cNvGrpSpPr/>
          <p:nvPr/>
        </p:nvGrpSpPr>
        <p:grpSpPr>
          <a:xfrm>
            <a:off x="3205080" y="3141720"/>
            <a:ext cx="1726920" cy="1008000"/>
            <a:chOff x="3205080" y="3141720"/>
            <a:chExt cx="1726920" cy="1008000"/>
          </a:xfrm>
        </p:grpSpPr>
        <p:sp>
          <p:nvSpPr>
            <p:cNvPr id="278" name="Line 5"/>
            <p:cNvSpPr/>
            <p:nvPr/>
          </p:nvSpPr>
          <p:spPr>
            <a:xfrm>
              <a:off x="3205080" y="3141720"/>
              <a:ext cx="17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6"/>
            <p:cNvSpPr/>
            <p:nvPr/>
          </p:nvSpPr>
          <p:spPr>
            <a:xfrm>
              <a:off x="320508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3205080" y="35733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3781080" y="357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"/>
            <p:cNvSpPr/>
            <p:nvPr/>
          </p:nvSpPr>
          <p:spPr>
            <a:xfrm>
              <a:off x="3781080" y="414972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 flipV="1">
              <a:off x="4356000" y="3573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4356000" y="35733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493200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rst T-diagram Comb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B   B       C      A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            H     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mpilers run on the same machine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rom A 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from B to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from A to C on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2"/>
          <p:cNvGrpSpPr/>
          <p:nvPr/>
        </p:nvGrpSpPr>
        <p:grpSpPr>
          <a:xfrm>
            <a:off x="2411280" y="2060640"/>
            <a:ext cx="3313080" cy="720720"/>
            <a:chOff x="2411280" y="2060640"/>
            <a:chExt cx="3313080" cy="720720"/>
          </a:xfrm>
        </p:grpSpPr>
        <p:sp>
          <p:nvSpPr>
            <p:cNvPr id="289" name="Line 4"/>
            <p:cNvSpPr/>
            <p:nvPr/>
          </p:nvSpPr>
          <p:spPr>
            <a:xfrm>
              <a:off x="2411280" y="2060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>
              <a:off x="3203640" y="2349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3851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3851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 flipV="1">
              <a:off x="4211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 flipV="1">
              <a:off x="4572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>
              <a:off x="421164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econd T-diagram Comb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B                     A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  H          K          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implementation language of a compiler from H to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other compiler from H to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37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314" name="Line 6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9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0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3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7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8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29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1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5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6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urpose of thi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xt is to provide basic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techniques, such as automata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xt is to give necessary tools and 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simpl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Y, C-M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cen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H                     A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  B          H  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a compiler from A to H written in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existing compiler for language B on machin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340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8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4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5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6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7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8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9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4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5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6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7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ond Scen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H                     A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  B          K          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existing compiler for language B on different mach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ross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366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0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1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2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6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7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Bootstr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compiler in the sam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iler for source language 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ing to a new host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3203640" y="2637000"/>
            <a:ext cx="1726920" cy="1008000"/>
            <a:chOff x="3203640" y="2637000"/>
            <a:chExt cx="1726920" cy="1008000"/>
          </a:xfrm>
        </p:grpSpPr>
        <p:sp>
          <p:nvSpPr>
            <p:cNvPr id="392" name="Line 5"/>
            <p:cNvSpPr/>
            <p:nvPr/>
          </p:nvSpPr>
          <p:spPr>
            <a:xfrm>
              <a:off x="3203640" y="2637000"/>
              <a:ext cx="17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>
              <a:off x="320364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>
              <a:off x="3203640" y="3068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3779640" y="3068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>
              <a:off x="3779640" y="364500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"/>
            <p:cNvSpPr/>
            <p:nvPr/>
          </p:nvSpPr>
          <p:spPr>
            <a:xfrm flipV="1">
              <a:off x="4354560" y="3068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1"/>
            <p:cNvSpPr/>
            <p:nvPr/>
          </p:nvSpPr>
          <p:spPr>
            <a:xfrm>
              <a:off x="4354560" y="3068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93056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tep in bootstr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H                     A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A          H  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written in machine language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written in its own languag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running but inefficient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4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403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3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27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ond step in bootstr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H                     A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A          H  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but inefficient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written in its own languag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final version of the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429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1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2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3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6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ep 1 in por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K                     A    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A          H  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source code retargeted to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Cross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455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0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1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2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3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4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6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7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18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21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22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24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25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27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ep 2 in por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K                     A    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A          K          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source code retargeted to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Retargeted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411280" y="2060640"/>
            <a:ext cx="3313080" cy="1008000"/>
            <a:chOff x="2411280" y="2060640"/>
            <a:chExt cx="3313080" cy="1008000"/>
          </a:xfrm>
        </p:grpSpPr>
        <p:sp>
          <p:nvSpPr>
            <p:cNvPr id="481" name="Line 5"/>
            <p:cNvSpPr/>
            <p:nvPr/>
          </p:nvSpPr>
          <p:spPr>
            <a:xfrm>
              <a:off x="241128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241128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>
              <a:off x="284328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2843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9"/>
            <p:cNvSpPr/>
            <p:nvPr/>
          </p:nvSpPr>
          <p:spPr>
            <a:xfrm flipV="1">
              <a:off x="3203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3564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4788000" y="2060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478800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4788000" y="2349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4"/>
            <p:cNvSpPr/>
            <p:nvPr/>
          </p:nvSpPr>
          <p:spPr>
            <a:xfrm>
              <a:off x="507672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5"/>
            <p:cNvSpPr/>
            <p:nvPr/>
          </p:nvSpPr>
          <p:spPr>
            <a:xfrm flipV="1">
              <a:off x="536400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6"/>
            <p:cNvSpPr/>
            <p:nvPr/>
          </p:nvSpPr>
          <p:spPr>
            <a:xfrm>
              <a:off x="5364000" y="234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7"/>
            <p:cNvSpPr/>
            <p:nvPr/>
          </p:nvSpPr>
          <p:spPr>
            <a:xfrm flipV="1">
              <a:off x="5724360" y="2060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8"/>
            <p:cNvSpPr/>
            <p:nvPr/>
          </p:nvSpPr>
          <p:spPr>
            <a:xfrm>
              <a:off x="507672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9"/>
            <p:cNvSpPr/>
            <p:nvPr/>
          </p:nvSpPr>
          <p:spPr>
            <a:xfrm>
              <a:off x="4572000" y="2492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0"/>
            <p:cNvSpPr/>
            <p:nvPr/>
          </p:nvSpPr>
          <p:spPr>
            <a:xfrm>
              <a:off x="2411280" y="206064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1"/>
            <p:cNvSpPr/>
            <p:nvPr/>
          </p:nvSpPr>
          <p:spPr>
            <a:xfrm>
              <a:off x="3203640" y="2349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2"/>
            <p:cNvSpPr/>
            <p:nvPr/>
          </p:nvSpPr>
          <p:spPr>
            <a:xfrm>
              <a:off x="3203640" y="27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3635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363528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 flipV="1">
              <a:off x="406728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6"/>
            <p:cNvSpPr/>
            <p:nvPr/>
          </p:nvSpPr>
          <p:spPr>
            <a:xfrm>
              <a:off x="406728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7"/>
            <p:cNvSpPr/>
            <p:nvPr/>
          </p:nvSpPr>
          <p:spPr>
            <a:xfrm flipV="1">
              <a:off x="4427640" y="2349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28"/>
          <p:cNvSpPr/>
          <p:nvPr/>
        </p:nvSpPr>
        <p:spPr>
          <a:xfrm>
            <a:off x="7812000" y="623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7 The TINY Sample Language and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is part of text as ho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8 C-Minus: A Language for A Compile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is part of text as home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of Chapter 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Top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 Why Compilers? A Brief History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 Programs Related to Compilers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 The Translation Process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 Major Data Structures in a Compiler 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Other Issues in Compiler Structure 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 Bootstrapping and Porting 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 The TINY Sample Language and Compiler 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 C-Minus: A Language for a Compiler Project [Ope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1 Why? A Brief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machine language-numeric codes is time consuming and ted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7 06 0000 0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x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sembly language has a number of de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asy to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BRAHIM ITD</dc:creator>
  <dc:description/>
  <dc:language>en-US</dc:language>
  <cp:lastModifiedBy>HP</cp:lastModifiedBy>
  <dcterms:modified xsi:type="dcterms:W3CDTF">2017-03-28T06:21:39Z</dcterms:modified>
  <cp:revision>46</cp:revision>
  <dc:subject/>
  <dc:title>PowerPoint Presentation</dc:title>
</cp:coreProperties>
</file>